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7CA-1929-4CC4-BE2D-365B1185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A1E-13C0-4D64-8172-65EFD86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6F9-C1BD-4A8A-82F6-6CF67058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4CA-2782-4150-82DC-605366A2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A7ED-5483-419F-A753-33DB7203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710-F867-49DA-847B-C694C86A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3CD8-7916-40F6-A934-6CB0B7D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286A-918F-46B2-87A2-51A482F1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CE2-ADF4-48F3-A229-065FDAE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605-42B0-49AE-9034-3481015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FF73-64CD-4310-93B1-352CEAB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AE4-3863-476F-8C49-D73AD8A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274-DF31-4681-8AB4-71EC916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69AA-67E3-400E-B339-353F722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547-D6ED-4482-99CA-97BFC4F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05B-4B8F-41BF-8A53-16E22A03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E1D3-7D84-4D4F-AE80-1ADAFE9F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C41-5F1F-4F3A-B9BC-E7117BF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0C-5811-4F8B-854A-79C41234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6E4-CBF6-4180-80A3-FD00573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E32-3CC8-4332-A62E-E055224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A53-FF5C-4728-B2BD-58DF804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767-2923-4D28-A3E8-8D11F3F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12E-158E-4430-8220-BF069CE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09E0-C492-433A-BF30-F15FF0704D4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CED-6BEE-47FC-B394-E2A693C5E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D7C-FB05-4848-BE90-8E4CABD466D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4A4-CA9E-4DD6-8C4A-24B2528E7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B1266E8-A2F8-4021-B15A-AF7E333CEA3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45D0-895D-4DB3-BB9D-3FB9AD9244D9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DBE90-5C43-416E-8B9F-689C95FD656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B48CE-B45C-43BE-B9C4-63AF084FCC9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A8F30-1CA5-49C3-8D27-676F246087A2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7E39A-7171-4023-A109-EC148F8F27B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A0E7A-6928-4FDC-B213-70C44A3BEF01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D9198-D687-4083-A3CC-C31F428D55EF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88FC5-6587-4924-B7F8-C518F30E572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B42A-7BD8-4208-B8D1-D6CFE7C80CD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56C63-5671-4E24-9E39-CEFA860110BE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28684-EF84-452B-A853-EEBE8CEA832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6E9A5-DFB5-4983-AC20-4462615B9C4B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B776F-5F59-48AD-8373-6D73953B9727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C82FC-E965-413F-92F9-890A4CB87C13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BC5E9-8782-4953-8C13-5036BB342A3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DC5B8-BB7D-4C19-8510-EAD9EB9AE0E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BEBB4-0F0D-4382-83C9-A21D4C2369CC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89BB9-0468-44C8-9039-DAE3EE0716B6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ADBAC-BB12-4DE7-B805-B23F09798C7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BECFA-F2B3-4BB9-9BDC-8C418DDD8025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C4503-9634-4147-9903-728B7F70DB0D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FBA28-6C23-4748-A42D-AA4021ED99A8}" type="datetime1">
              <a:rPr lang="en-US"/>
              <a:t>07/31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C3A20-E091-4927-B2F5-C35E4707D335}" type="datetime1">
              <a:rPr lang="en-US"/>
              <a:t>07/31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