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788F3-68E7-435D-8275-24059865ABC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E146-EB8B-45E8-9C65-3F50029CA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49561-4C3D-494C-9A24-1A69E3370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8F68-B86F-4146-A7B9-545F9AF7C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EDD4B-1449-4A9B-9371-25C4A2FBB4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467D2-A0C4-46A0-98D8-25D0D91A3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1820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26560" y="106632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0948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1820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26560" y="3852360"/>
            <a:ext cx="26744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3A87A-6971-4B68-88FB-C057C4F4F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2AC5-368A-4C2E-8A00-6050B55EE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2D16-848F-4D85-B3C8-38A1461C7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09120" y="380880"/>
            <a:ext cx="67057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00AE5-4341-4B70-8F93-B717B627D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8623D-059D-4E45-A3E8-BB9C4D8AD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65760" y="385236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EE5C2-ACAA-4D7F-8C9E-2803E4D5C0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349200"/>
            <a:ext cx="6705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65760" y="1066320"/>
            <a:ext cx="40532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852360"/>
            <a:ext cx="83059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0A041-3DD5-4458-B079-315AAA0E2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9168C072-9D7A-4DCB-96D0-2E7803AB16D0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08320"/>
            <a:ext cx="5486400" cy="149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</a:t>
            </a: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32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3200"/>
            </a:br>
            <a:r>
              <a:rPr b="0" lang="en-GB" sz="28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リューオブジェクト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数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固定長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リソースバンドル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サービス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AntTas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丸ｺﾞｼｯｸM-PRO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コミッタ 自己紹介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2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敏樹・山本耕司・内林宏武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ご紹介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blanco Framework 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endParaRPr b="0" lang="en-US" sz="3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OSC2006 Tokyo/Fall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以降の変化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7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伊賀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の</a:t>
            </a:r>
            <a:r>
              <a:rPr b="0" lang="en-US" sz="2200" spc="-1" strike="noStrike">
                <a:solidFill>
                  <a:srgbClr val="000000"/>
                </a:solidFill>
                <a:latin typeface="HG丸ｺﾞｼｯｸM-PRO"/>
              </a:rPr>
              <a:t>ODP.NET</a:t>
            </a:r>
            <a:r>
              <a:rPr b="0" lang="ja-JP" sz="2200" spc="-1" strike="noStrike">
                <a:solidFill>
                  <a:srgbClr val="000000"/>
                </a:solidFill>
                <a:latin typeface="HG丸ｺﾞｼｯｸM-PRO"/>
              </a:rPr>
              <a:t>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1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内林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日本語化パッチへの取り組み</a:t>
            </a:r>
            <a:br>
              <a:rPr sz="3000"/>
            </a:b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5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: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山本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HG丸ｺﾞｼｯｸM-PRO"/>
              </a:rPr>
              <a:t>質疑応答・意見交流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(10</a:t>
            </a:r>
            <a:r>
              <a:rPr b="0" lang="ja-JP" sz="2600" spc="-1" strike="noStrike">
                <a:solidFill>
                  <a:srgbClr val="000000"/>
                </a:solidFill>
                <a:latin typeface="HG丸ｺﾞｼｯｸM-PRO"/>
              </a:rPr>
              <a:t>分</a:t>
            </a:r>
            <a:r>
              <a:rPr b="0" lang="en-US" sz="26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その他の定義書の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90764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「</a:t>
            </a: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ご紹介」 の後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電文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バッチ処理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グループ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メッセージ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00:15Z</dcterms:modified>
  <cp:revision>345</cp:revision>
  <dc:subject/>
  <dc:title>blanco Framework ご紹介</dc:title>
</cp:coreProperties>
</file>