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90955-E1A1-49A9-BBF5-AEDBD8BD2CE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3600-196E-44F4-94DF-AE82012EC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6F0-51ED-4C12-A2EC-F6F73F3C0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CAE2-4747-492C-AAC2-CAEE00743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48C4-260B-47A8-A293-27FA0E17E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9401-C5F3-4B89-8085-998A04804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A5FA-0BC1-4141-8369-44B57E26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8DA5-4F0E-4A0B-B4A6-7E67D990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B225-A9FD-42ED-AEF8-8571F7AF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6FB2-9893-4ACC-BE40-28C0A0F0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54B3-1D6D-4A32-8F56-4ABCBFFB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12E0-827F-4C2E-AEE5-494F60BE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7D5-3B1E-421F-964D-ED4B8501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FE4BB-B96D-4DBC-9F16-AF321D29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6591-E742-46A2-8DF9-6A3D49F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E62B-007F-4BE3-91CD-09C39312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6580-6335-4368-AF33-E495DCA2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8A743-5A80-453C-B035-A6F55FC6C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117-9A54-4814-8345-81BC2FEB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E2B-7FB5-45AE-BE82-F3F78CB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A2CA-ABB7-4963-B6F2-9C547D4F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2E00-F0AA-458A-97B4-9F21C4B9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376-B594-4285-894E-B89148C4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01A-BD25-402F-9E45-6DC144F1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9E84-720D-40B3-BD7B-65838AF4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662F25-3333-420B-BFDD-993DDA2A4F95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3F474A9-66EE-495A-A4B7-16B17D249FA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クリーンショッ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7.0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6F6A-45CC-4EDD-9B2E-B7AE009F48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FEBD-8914-436F-8C20-B6C292B2B48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A8D9-2F6E-4444-B18E-88FA43A4216E}" type="slidenum">
              <a:t>5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shikiIga</cp:lastModifiedBy>
  <dcterms:modified xsi:type="dcterms:W3CDTF">2007-01-15T09:00:58Z</dcterms:modified>
  <cp:revision>318</cp:revision>
  <dc:subject/>
  <dc:title>blanco Framework ご紹介</dc:title>
</cp:coreProperties>
</file>