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3374-5F49-4770-AE73-2C72159C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7BBB-56B7-47EF-896D-FECCB0D3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276-0B90-45CE-8EE4-909D13E4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82FF-1DA9-4BC4-BC25-5DD9B2F20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2337-0CCE-4011-9041-CDB44DF8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E1DE-FA82-4D82-8E48-34A5BF67A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0111-F3DB-4DD4-9AC0-140E3B11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F545-4ECF-45DC-8365-05F53146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6726-A5A6-441B-B1F8-3BF2BD39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A23-728A-4F98-936B-C659211E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56DD-3B89-46EA-9A4E-A513AA23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E12C-7B06-4C36-9ACC-384B1C1C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7BEE-3E5C-4DA3-83E1-64F0C3519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80000" y="3357720"/>
            <a:ext cx="2339640" cy="122364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24000" y="765000"/>
            <a:ext cx="3360600" cy="3132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243400" y="787320"/>
            <a:ext cx="2820960" cy="28209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4005360"/>
            <a:ext cx="2844720" cy="262728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580000" y="3968640"/>
            <a:ext cx="2598840" cy="25988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2720" y="260280"/>
            <a:ext cx="61927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主要プロダク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172360" y="2673360"/>
            <a:ext cx="609840" cy="719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9" idx="3"/>
            <a:endCxn id="47" idx="2"/>
          </p:cNvCxnSpPr>
          <p:nvPr/>
        </p:nvCxnSpPr>
        <p:spPr>
          <a:xfrm>
            <a:off x="7162920" y="3019320"/>
            <a:ext cx="1009800" cy="140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50" name=""/>
          <p:cNvSpPr/>
          <p:nvPr/>
        </p:nvSpPr>
        <p:spPr>
          <a:xfrm>
            <a:off x="6370560" y="4184640"/>
            <a:ext cx="100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文字列関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11280" y="4186080"/>
            <a:ext cx="971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電文送受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2000" y="9097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ファイル入出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99040" y="966960"/>
            <a:ext cx="14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ータベース関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446800"/>
            <a:ext cx="719280" cy="71892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li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4" idx="3"/>
            <a:endCxn id="56" idx="1"/>
          </p:cNvCxnSpPr>
          <p:nvPr/>
        </p:nvCxnSpPr>
        <p:spPr>
          <a:xfrm flipV="1">
            <a:off x="1258920" y="5803920"/>
            <a:ext cx="757440" cy="25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57" name=""/>
          <p:cNvSpPr/>
          <p:nvPr/>
        </p:nvSpPr>
        <p:spPr>
          <a:xfrm>
            <a:off x="3924360" y="3825720"/>
            <a:ext cx="2087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 Black"/>
              </a:rPr>
              <a:t>blanco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43280" y="4616280"/>
            <a:ext cx="75708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処理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68720" y="565956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S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24360" y="537228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S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16000" y="5551560"/>
            <a:ext cx="649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eb Servi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x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16000" y="5048280"/>
            <a:ext cx="649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クラ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95640" y="1379520"/>
            <a:ext cx="757080" cy="42228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可変長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32000" y="2171880"/>
            <a:ext cx="720720" cy="421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固定長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95640" y="3000240"/>
            <a:ext cx="792000" cy="385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71640" y="1452600"/>
            <a:ext cx="792360" cy="42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</a:t>
            </a: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コード</a:t>
            </a: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71640" y="2244600"/>
            <a:ext cx="792360" cy="420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71640" y="300024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341360"/>
            <a:ext cx="647640" cy="6494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可変長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2133720"/>
            <a:ext cx="647640" cy="64908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固定長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3070080"/>
            <a:ext cx="770040" cy="7700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パテ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396120" y="2084400"/>
            <a:ext cx="68580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SQL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59400" y="2803680"/>
            <a:ext cx="8035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r>
              <a:rPr b="0" lang="zh-CN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8" idx="3"/>
            <a:endCxn id="65" idx="1"/>
          </p:cNvCxnSpPr>
          <p:nvPr/>
        </p:nvCxnSpPr>
        <p:spPr>
          <a:xfrm flipV="1">
            <a:off x="1116000" y="1662840"/>
            <a:ext cx="756000" cy="36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3" name=""/>
          <p:cNvCxnSpPr>
            <a:stCxn id="70" idx="3"/>
            <a:endCxn id="67" idx="1"/>
          </p:cNvCxnSpPr>
          <p:nvPr/>
        </p:nvCxnSpPr>
        <p:spPr>
          <a:xfrm flipV="1">
            <a:off x="1238400" y="3228840"/>
            <a:ext cx="633600" cy="226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4" name=""/>
          <p:cNvCxnSpPr>
            <a:stCxn id="69" idx="3"/>
            <a:endCxn id="66" idx="1"/>
          </p:cNvCxnSpPr>
          <p:nvPr/>
        </p:nvCxnSpPr>
        <p:spPr>
          <a:xfrm flipV="1">
            <a:off x="1116000" y="2454840"/>
            <a:ext cx="756000" cy="36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"/>
          <p:cNvCxnSpPr>
            <a:stCxn id="62" idx="1"/>
            <a:endCxn id="65" idx="3"/>
          </p:cNvCxnSpPr>
          <p:nvPr/>
        </p:nvCxnSpPr>
        <p:spPr>
          <a:xfrm flipH="1">
            <a:off x="2664000" y="1590840"/>
            <a:ext cx="432000" cy="72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6" name=""/>
          <p:cNvCxnSpPr>
            <a:stCxn id="63" idx="1"/>
            <a:endCxn id="66" idx="3"/>
          </p:cNvCxnSpPr>
          <p:nvPr/>
        </p:nvCxnSpPr>
        <p:spPr>
          <a:xfrm flipH="1">
            <a:off x="2664000" y="2382840"/>
            <a:ext cx="468360" cy="72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7" name=""/>
          <p:cNvCxnSpPr>
            <a:stCxn id="64" idx="1"/>
            <a:endCxn id="67" idx="3"/>
          </p:cNvCxnSpPr>
          <p:nvPr/>
        </p:nvCxnSpPr>
        <p:spPr>
          <a:xfrm flipH="1">
            <a:off x="2709720" y="3193200"/>
            <a:ext cx="386280" cy="360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8" name=""/>
          <p:cNvCxnSpPr>
            <a:stCxn id="58" idx="2"/>
            <a:endCxn id="61" idx="3"/>
          </p:cNvCxnSpPr>
          <p:nvPr/>
        </p:nvCxnSpPr>
        <p:spPr>
          <a:xfrm flipH="1">
            <a:off x="2665440" y="5046480"/>
            <a:ext cx="556920" cy="182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79" name=""/>
          <p:cNvCxnSpPr>
            <a:stCxn id="58" idx="2"/>
            <a:endCxn id="56" idx="3"/>
          </p:cNvCxnSpPr>
          <p:nvPr/>
        </p:nvCxnSpPr>
        <p:spPr>
          <a:xfrm flipH="1">
            <a:off x="2665440" y="5046480"/>
            <a:ext cx="556920" cy="757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0" name=""/>
          <p:cNvCxnSpPr>
            <a:stCxn id="58" idx="2"/>
            <a:endCxn id="60" idx="0"/>
          </p:cNvCxnSpPr>
          <p:nvPr/>
        </p:nvCxnSpPr>
        <p:spPr>
          <a:xfrm>
            <a:off x="3222000" y="5046480"/>
            <a:ext cx="127080" cy="3261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1" name=""/>
          <p:cNvCxnSpPr>
            <a:stCxn id="71" idx="2"/>
            <a:endCxn id="49" idx="0"/>
          </p:cNvCxnSpPr>
          <p:nvPr/>
        </p:nvCxnSpPr>
        <p:spPr>
          <a:xfrm>
            <a:off x="6739200" y="2514600"/>
            <a:ext cx="22320" cy="289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82" name=""/>
          <p:cNvCxnSpPr>
            <a:endCxn id="70" idx="2"/>
          </p:cNvCxnSpPr>
          <p:nvPr/>
        </p:nvCxnSpPr>
        <p:spPr>
          <a:xfrm rot="5400000">
            <a:off x="1656000" y="2410200"/>
            <a:ext cx="627480" cy="2233080"/>
          </a:xfrm>
          <a:prstGeom prst="curvedConnector3">
            <a:avLst>
              <a:gd name="adj1" fmla="val 108495"/>
            </a:avLst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83" name=""/>
          <p:cNvSpPr/>
          <p:nvPr/>
        </p:nvSpPr>
        <p:spPr>
          <a:xfrm>
            <a:off x="468360" y="274680"/>
            <a:ext cx="179280" cy="35856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98560" y="123336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  <a:ea typeface="MS UI Gothic"/>
              </a:rPr>
              <a:t>blancoCs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98560" y="123660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06560" y="2028960"/>
            <a:ext cx="90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</a:rPr>
              <a:t>blancoFixedLeng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798560" y="2028960"/>
            <a:ext cx="2197080" cy="68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98560" y="282096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6560" y="2855880"/>
            <a:ext cx="104472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Century Gothic"/>
              </a:rPr>
              <a:t>blancoResourceBund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50920" y="4543560"/>
            <a:ext cx="6843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O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71640" y="4471920"/>
            <a:ext cx="2052720" cy="172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80120" y="179532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35760" y="1758960"/>
            <a:ext cx="1415880" cy="1620720"/>
          </a:xfrm>
          <a:custGeom>
            <a:avLst/>
            <a:gdLst>
              <a:gd name="textAreaLeft" fmla="*/ 69120 w 1415880"/>
              <a:gd name="textAreaRight" fmla="*/ 1346760 w 1415880"/>
              <a:gd name="textAreaTop" fmla="*/ 69120 h 1620720"/>
              <a:gd name="textAreaBottom" fmla="*/ 1551600 h 1620720"/>
            </a:gdLst>
            <a:ahLst/>
            <a:rect l="textAreaLeft" t="textAreaTop" r="textAreaRight" b="textAreaBottom"/>
            <a:pathLst>
              <a:path w="21600" h="24724">
                <a:moveTo>
                  <a:pt x="3600" y="0"/>
                </a:moveTo>
                <a:arcTo wR="3600" hR="3600" stAng="16200000" swAng="-5400000"/>
                <a:lnTo>
                  <a:pt x="0" y="21124"/>
                </a:lnTo>
                <a:arcTo wR="3600" hR="3600" stAng="10800000" swAng="-5400000"/>
                <a:lnTo>
                  <a:pt x="18000" y="2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43760" y="1363680"/>
            <a:ext cx="1152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qlEditorPlu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99040" y="1327320"/>
            <a:ext cx="1476360" cy="3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335640" y="4581360"/>
            <a:ext cx="11145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99280" y="4545000"/>
            <a:ext cx="1150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99280" y="494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Character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83280" y="4903920"/>
            <a:ext cx="1582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07280" y="566100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tring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262560" y="5624640"/>
            <a:ext cx="129564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72360" y="530064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StringConver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19640" y="5264280"/>
            <a:ext cx="154800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70560" y="6021360"/>
            <a:ext cx="11178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entury Gothic"/>
              </a:rPr>
              <a:t>blancoConsta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34200" y="5985000"/>
            <a:ext cx="118908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0690-D710-4F5B-A159-909E073D0D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ｎｂｂ</cp:lastModifiedBy>
  <dcterms:modified xsi:type="dcterms:W3CDTF">2007-03-16T02:16:44Z</dcterms:modified>
  <cp:revision>194</cp:revision>
  <dc:subject/>
  <dc:title>blanco Framework　システム構成</dc:title>
</cp:coreProperties>
</file>