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391-4478-403C-B39E-952A3C86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9A50-90BB-4DDB-8B81-4C95E43B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BAB3-2507-4A90-AA87-12B9668BC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0319-0397-4180-98B3-E2A15550A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7EE6-48DF-4862-AEA2-F1C867B6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8146-6282-4C03-9D14-59224CEB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BD04-625C-4011-B006-2B6318EA4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2786-C583-45A3-BA07-8A89E2CB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A231-3F10-4AC1-83EE-1624EE6E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548-05EB-48E5-8A4D-8709D801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2A19-B4E2-44CD-BCBB-C51DA134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9C4-4727-42BB-A64A-72E62ECF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2418-858B-4D93-AEFD-E2B2AAD74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55640" y="498600"/>
            <a:ext cx="720108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メールソリューション </a:t>
            </a: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の提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1197000"/>
            <a:ext cx="77040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般的な業務システム開発においてメール送受信ニーズが出てきている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ところが、実際に業務システムにメール送受信を組み込むとトラブルが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1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クライアントの種類・機種によっては文字化けのトラブ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2: TO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、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欄のメールアドレス誤設定による個人情報流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3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の文面が適切でなかった。ワークフロー機能が入っていれば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4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ール送受信にまつわる機能の実装は意外にコスト高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・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5: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試験目的でプログラムを動かしたら、間違ってメールを誤送信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blancoMail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導入して、メール送受信にまつわる諸問題を解決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680E-5911-4B90-998C-78464C7381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76720" y="2421000"/>
            <a:ext cx="1116000" cy="107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70560" y="944640"/>
            <a:ext cx="3241800" cy="4176720"/>
          </a:xfrm>
          <a:custGeom>
            <a:avLst/>
            <a:gdLst>
              <a:gd name="textAreaLeft" fmla="*/ 158040 w 3241800"/>
              <a:gd name="textAreaRight" fmla="*/ 3083760 w 3241800"/>
              <a:gd name="textAreaTop" fmla="*/ 158040 h 4176720"/>
              <a:gd name="textAreaBottom" fmla="*/ 4018680 h 4176720"/>
            </a:gdLst>
            <a:ahLst/>
            <a:rect l="textAreaLeft" t="textAreaTop" r="textAreaRight" b="textAreaBottom"/>
            <a:pathLst>
              <a:path w="21600" h="27829">
                <a:moveTo>
                  <a:pt x="3600" y="0"/>
                </a:moveTo>
                <a:arcTo wR="3600" hR="3600" stAng="16200000" swAng="-5400000"/>
                <a:lnTo>
                  <a:pt x="0" y="24229"/>
                </a:lnTo>
                <a:arcTo wR="3600" hR="3600" stAng="10800000" swAng="-5400000"/>
                <a:lnTo>
                  <a:pt x="18000" y="278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0800000">
            <a:off x="4462200" y="23839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35640" y="252900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64000" y="306864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64000" y="321300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96000" y="5121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を活用したシステム構築が簡単に実現できる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9280" y="504972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サー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アーキテクチ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75280" y="43290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68136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9640" y="443700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4560" y="37893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avaMa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241920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19640" y="25290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2000" y="3068640"/>
            <a:ext cx="219528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92720" y="3176640"/>
            <a:ext cx="1800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re (API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9280" y="2349360"/>
            <a:ext cx="1116000" cy="107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2193840" y="234756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66920" y="24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受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95640" y="3032280"/>
            <a:ext cx="934920" cy="576000"/>
          </a:xfrm>
          <a:prstGeom prst="rightArrow">
            <a:avLst>
              <a:gd name="adj1" fmla="val 50000"/>
              <a:gd name="adj2" fmla="val 4057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3176640"/>
            <a:ext cx="9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メール送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213000"/>
            <a:ext cx="863640" cy="4320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メー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086440"/>
            <a:ext cx="2197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ケータイや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PC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など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通常のメールクライアン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5940360" y="1195560"/>
            <a:ext cx="2232000" cy="504720"/>
            <a:chOff x="5940360" y="1195560"/>
            <a:chExt cx="2232000" cy="504720"/>
          </a:xfrm>
        </p:grpSpPr>
        <p:sp>
          <p:nvSpPr>
            <p:cNvPr id="70" name=""/>
            <p:cNvSpPr/>
            <p:nvPr/>
          </p:nvSpPr>
          <p:spPr>
            <a:xfrm>
              <a:off x="5940360" y="1195560"/>
              <a:ext cx="223200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084720" y="1303560"/>
              <a:ext cx="19447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Century Gothic"/>
                </a:rPr>
                <a:t>業務アプリケーション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5975280" y="1808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119640" y="1952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4226-B703-443D-83FA-D92616E533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498600"/>
            <a:ext cx="59403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Mail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を支える個別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306864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5440" y="317808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Comma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117440" y="4329000"/>
            <a:ext cx="2195640" cy="504720"/>
            <a:chOff x="1117440" y="4329000"/>
            <a:chExt cx="2195640" cy="504720"/>
          </a:xfrm>
        </p:grpSpPr>
        <p:sp>
          <p:nvSpPr>
            <p:cNvPr id="79" name=""/>
            <p:cNvSpPr/>
            <p:nvPr/>
          </p:nvSpPr>
          <p:spPr>
            <a:xfrm>
              <a:off x="1117440" y="4329000"/>
              <a:ext cx="219564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98520" y="4437000"/>
              <a:ext cx="180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10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Century Gothic"/>
                </a:rPr>
                <a:t>blancoMailCore (API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8108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5440" y="20606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MailAg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27280" y="4257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単純化するプロダクト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安全で簡単なメール送信／メール受信プログラミング環境を提供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※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JavaMail API </a:t>
            </a: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直接利用したプログラミングの難易度は高い。</a:t>
            </a:r>
            <a:br>
              <a:rPr sz="1400"/>
            </a:br>
            <a:r>
              <a:rPr b="0" lang="ja-JP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バッグモードを提供。試験動作時のメール誤送信を防ぐ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27280" y="3033720"/>
            <a:ext cx="514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文面にコマンドを埋め込む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承諾・拒否・選択・短文入力などを実現する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セッションの概念 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セッション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ID) 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を付与する機能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27280" y="1844640"/>
            <a:ext cx="51483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ワークフローに関する基本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時間帯を考慮したメール送信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による入会・退会といったアドレス管理機能。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メール送信内容の事前チェック機能。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(</a:t>
            </a: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管理者の承認後に送信</a:t>
            </a:r>
            <a:r>
              <a:rPr b="0" lang="en-US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761000"/>
            <a:ext cx="1800360" cy="325440"/>
          </a:xfrm>
          <a:prstGeom prst="roundRect">
            <a:avLst>
              <a:gd name="adj" fmla="val 16667"/>
            </a:avLst>
          </a:prstGeom>
          <a:solidFill>
            <a:srgbClr val="ffff99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2007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年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9</a:t>
            </a:r>
            <a:r>
              <a:rPr b="0" lang="zh-CN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月末リリース予定</a:t>
            </a:r>
            <a:r>
              <a:rPr b="0" lang="en-US" sz="1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74F-BEFB-466A-A9CD-FF95DCCD2E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9-06T04:02:37Z</dcterms:modified>
  <cp:revision>324</cp:revision>
  <dc:subject/>
  <dc:title>blanco Framework　システム構成</dc:title>
</cp:coreProperties>
</file>