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23C29-9E60-4322-AE8A-188E210A0C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07AF9-760A-4D0D-BF11-FD3F3DF4FA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C595E-0EFA-47E9-8FE4-D7DF10EF2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668E-A842-4A10-9BC8-A20D9980DD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8898-90E0-41A6-B2D1-7135C8B1B1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1A815-7B4D-473F-9C1B-9E83BC3392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9B39-11DB-4709-95AE-DA4C9ECD0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B90B2-4D2F-446F-8426-74AD5A6B30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8FC2-CCE6-4E15-AB9A-8624B85B4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C6E02-6D88-45D4-8D43-0A8DF5EC76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28F3D-E44F-448E-8453-54E6624239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1A0AB-D11D-4496-BBEF-1B17D6742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457200" cy="655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7315200" cy="304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6002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20574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P </a:t>
            </a:r>
            <a:fld id="{D64A6373-FCB3-4AC8-B4FA-62DF6DFAB881}" type="slidenum"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4920"/>
            <a:ext cx="609588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3920" y="6553080"/>
            <a:ext cx="5410080" cy="304920"/>
          </a:xfrm>
          <a:prstGeom prst="rect">
            <a:avLst/>
          </a:prstGeom>
          <a:gradFill rotWithShape="0">
            <a:gsLst>
              <a:gs pos="0">
                <a:srgbClr val="5172b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95680" y="6553080"/>
            <a:ext cx="464832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4000" y="659700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小塚ゴシック Std M"/>
                <a:ea typeface="小塚ゴシック Std M"/>
              </a:rPr>
              <a:t>blanco 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43200" y="914400"/>
            <a:ext cx="640080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0"/>
            <a:ext cx="0" cy="9144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2205000"/>
            <a:ext cx="5791320" cy="1604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  <a:effectLst>
            <a:outerShdw dist="340830" dir="1592279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3733920"/>
            <a:ext cx="0" cy="4572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4038480"/>
            <a:ext cx="533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192400"/>
            <a:ext cx="47246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3352680"/>
            <a:ext cx="0" cy="76212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963800"/>
            <a:ext cx="0" cy="4572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ＭＳ Ｐゴシック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ＭＳ Ｐゴシック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914400" algn="ctr">
              <a:spcBef>
                <a:spcPts val="4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13716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18288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への取り組み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484280" y="4400640"/>
            <a:ext cx="6400800" cy="134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200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7.03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.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17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山本 耕司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  <a:ea typeface="HG丸ｺﾞｼｯｸM-PRO"/>
              </a:rPr>
              <a:t>コミッタ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自動生成アーキテクチャ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6" name=""/>
          <p:cNvSpPr/>
          <p:nvPr/>
        </p:nvSpPr>
        <p:spPr>
          <a:xfrm>
            <a:off x="7486560" y="368136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M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486560" y="285264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ー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76360" y="1773360"/>
            <a:ext cx="169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059280" y="1628640"/>
            <a:ext cx="3241440" cy="302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0920" y="31399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25800" y="328464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読み込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3200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8720" y="31417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81800" y="3284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書き出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64360" y="4905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すぐに使えるソースコード</a:t>
            </a:r>
            <a:br>
              <a:rPr sz="1600"/>
            </a:b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実行時ライブラリ不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0000" y="2529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記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16360" y="4941720"/>
            <a:ext cx="2195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容易なインストール</a:t>
            </a:r>
            <a:br>
              <a:rPr sz="1600"/>
            </a:b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および実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1160640"/>
            <a:ext cx="1150920" cy="1079280"/>
          </a:xfrm>
          <a:prstGeom prst="wedgeRectCallout">
            <a:avLst>
              <a:gd name="adj1" fmla="val -18138"/>
              <a:gd name="adj2" fmla="val 87648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C#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VB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0720" y="497664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表計算ソフトを使って</a:t>
            </a:r>
            <a:br>
              <a:rPr sz="1600"/>
            </a:br>
            <a:r>
              <a:rPr b="0" lang="zh-CN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記入するだ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195120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entury Gothic"/>
              </a:rPr>
              <a:t>Excel / Open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386064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256392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08360" y="40035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08360" y="27068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JExcelAp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6400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08360" y="20588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＊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7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1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19640" y="335448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Apache 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335448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Eclip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3068640"/>
            <a:ext cx="1152360" cy="7207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LS</a:t>
            </a: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B9B6-B77F-4386-A902-8C834FDB6A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遭遇した問題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0920" y="148248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ＭＳ Ｐゴシック"/>
              </a:rPr>
              <a:t>Sun JDK 1.4.2_12</a:t>
            </a: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上で正常に動作しない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セルの値が読めない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ＭＳ Ｐゴシック"/>
              </a:rPr>
              <a:t>特定の文字が正常に処理できない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「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×</a:t>
            </a:r>
            <a:r>
              <a:rPr b="0" lang="zh-CN" sz="1800" spc="-1" strike="noStrike">
                <a:solidFill>
                  <a:srgbClr val="000000"/>
                </a:solidFill>
                <a:latin typeface="ＭＳ Ｐゴシック"/>
              </a:rPr>
              <a:t>」が「ﾗ」に文字化け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83A2F-C540-459F-A007-8950653225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ＭＳ Ｐゴシック"/>
              </a:rPr>
              <a:t>Sun JDK 1.4.2_12</a:t>
            </a:r>
            <a:r>
              <a:rPr b="0" lang="zh-CN" sz="2800" spc="-1" strike="noStrike">
                <a:solidFill>
                  <a:srgbClr val="000000"/>
                </a:solidFill>
                <a:latin typeface="ＭＳ Ｐゴシック"/>
              </a:rPr>
              <a:t>上で正常に動作しない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10920" y="1482480"/>
            <a:ext cx="8305560" cy="47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Sun JDK 1.4.2_10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までは問題なし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Sun JDK 1.4.2_12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上ではセルの値が読めない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中間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XML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ファイルの中身が空っぽ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ソースコードが生成されない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“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UnicodeLittle“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内部表現が変わったのが原因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BOM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なし→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BOM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あり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“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UnicodeLittle” → “UTF-16LE”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8A04E-6592-47D7-8E66-FCBDBFFEE7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特定の文字が正常に処理できない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0920" y="148248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特定の文字が文字化け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「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×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」が「ﾗ」に文字化け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常に文字化けが発生するわけでない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\u0000-\u00ff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の文字だけからなるセルで発生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ASCII (Compressed) String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WorkbookSetting#getEncoding()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のエンコーディングで復元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指定がなければデフォルトエンコーディング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WorkbookSetting#setEncoding()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”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ISO8859_1”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を指定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自体の修正は必要なし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シート名の文字化けは別途対応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new String(bytes)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→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new String(bytes, "ISO8859_1")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5C5FE-073B-4442-A470-626C3AB60A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JExcelApi blanco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パッチ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lancoCommons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同梱して配布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SourceForge.jp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にてパッチ提供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en-US" sz="2000" spc="-1" strike="noStrike" u="sng">
                <a:solidFill>
                  <a:srgbClr val="3333cc"/>
                </a:solidFill>
                <a:uFillTx/>
                <a:latin typeface="ＭＳ Ｐゴシック"/>
              </a:rPr>
              <a:t>http://cvs.sourceforge.jp/cgi-bin/viewcvs.cgi/blancofw/blancoMisc/doc/jexcelapi/#dirlis</a:t>
            </a:r>
            <a:r>
              <a:rPr b="0" lang="ja-JP" sz="2000" spc="-1" strike="noStrike" u="sng">
                <a:solidFill>
                  <a:srgbClr val="3333cc"/>
                </a:solidFill>
                <a:uFillTx/>
                <a:latin typeface="ＭＳ Ｐゴシック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最新のパッチは、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jxl-2.6.2blanco4.patch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243BD-994A-4314-8DA0-AB8B3D24AF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blanco JExcelApi </a:t>
            </a:r>
            <a:r>
              <a:rPr b="0" lang="ja-JP" sz="2800" spc="-1" strike="noStrike">
                <a:solidFill>
                  <a:srgbClr val="000000"/>
                </a:solidFill>
                <a:latin typeface="ＭＳ Ｐゴシック"/>
              </a:rPr>
              <a:t>メーリングリスト</a:t>
            </a:r>
            <a:endParaRPr b="0" lang="en-US" sz="28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30556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lancofw-jexcelapi ML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	</a:t>
            </a:r>
            <a:r>
              <a:rPr b="0" lang="ja-JP" sz="2000" spc="-1" strike="noStrike" u="sng">
                <a:solidFill>
                  <a:srgbClr val="3333cc"/>
                </a:solidFill>
                <a:uFillTx/>
                <a:latin typeface="ＭＳ Ｐゴシック"/>
              </a:rPr>
              <a:t>http://lists.sourceforge.jp/mailman/listinfo/blancofw-jexcelapi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blanco ML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中、ユーザ数最多</a:t>
            </a: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ほとんど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ROM</a:t>
            </a:r>
            <a:endParaRPr b="0" lang="en-US" sz="18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574E4-E6FC-44CA-8B2B-ABA8A7F0B2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JExcelApi ML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を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よろしく</a:t>
            </a:r>
            <a:endParaRPr b="0" lang="en-US" sz="3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ＭＳ Ｐゴシック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ＭＳ Ｐゴシック"/>
              </a:rPr>
              <a:t>も ・・・</a:t>
            </a:r>
            <a:endParaRPr b="0" lang="en-US" sz="2400" spc="-1" strike="noStrike">
              <a:solidFill>
                <a:srgbClr val="5f5f5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ndb</cp:lastModifiedBy>
  <dcterms:modified xsi:type="dcterms:W3CDTF">2007-03-16T05:48:00Z</dcterms:modified>
  <cp:revision>217</cp:revision>
  <dc:subject/>
  <dc:title>blanco Framework　システム構成</dc:title>
</cp:coreProperties>
</file>