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899640" y="7394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16360" y="9371160"/>
            <a:ext cx="2914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2F16D-54F6-4E62-AF14-C61E860EAEE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31FF5-BF20-4D61-B9DB-F62609C7D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B3FC-482F-4969-BD56-AFBD3952D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78AEC-CB12-4625-961B-471F1299F5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53F4-4E6D-4AD8-AC4D-0666FE439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65AF-8D5A-4EB3-835E-318F1AD1E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98700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64680" y="426708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20932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98700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64680" y="4506120"/>
            <a:ext cx="1692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73398-5B1F-40B8-AFEB-366C49A57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317FF-F51A-4F7D-BBD2-BE763AA06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CC14-D25A-41F8-8D6E-32CBD6E0F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050920" y="2276280"/>
            <a:ext cx="5486400" cy="77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D2641-988E-463A-8B71-5284E96C7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9A6B6-D739-4AD6-A461-6DB5E13ABD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03560" y="450612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8AD8-8911-4E8F-B727-761AC0D49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3560" y="4267080"/>
            <a:ext cx="25657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506120"/>
            <a:ext cx="52578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BD46-17CC-42F0-84A0-CBFE2F5DE8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04920"/>
            <a:ext cx="457200" cy="65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0"/>
            <a:ext cx="7315200" cy="304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11430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6002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2057400" indent="-22860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P </a:t>
            </a:r>
            <a:fld id="{4C6789E3-2D03-4DD3-9BF5-23768DAE986D}" type="slidenum">
              <a:rPr b="0" lang="en-US" sz="1200" spc="-1" strike="noStrike">
                <a:solidFill>
                  <a:srgbClr val="000000"/>
                </a:solidFill>
                <a:latin typeface="小塚ゴシック Std M"/>
                <a:ea typeface="小塚ゴシック Std 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304920"/>
            <a:ext cx="609588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33920" y="6553080"/>
            <a:ext cx="5410080" cy="304920"/>
          </a:xfrm>
          <a:prstGeom prst="rect">
            <a:avLst/>
          </a:prstGeom>
          <a:gradFill rotWithShape="0">
            <a:gsLst>
              <a:gs pos="0">
                <a:srgbClr val="5172b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95680" y="6553080"/>
            <a:ext cx="464832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04000" y="6597000"/>
            <a:ext cx="23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小塚ゴシック Std M"/>
                <a:ea typeface="小塚ゴシック Std M"/>
              </a:rPr>
              <a:t>blanco Frame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743200" y="914400"/>
            <a:ext cx="640080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0"/>
            <a:ext cx="0" cy="9144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52480" y="2205000"/>
            <a:ext cx="5791320" cy="160488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  <a:effectLst>
            <a:outerShdw dist="340830" dir="1592279" blurRad="0" rotWithShape="0">
              <a:srgbClr val="cc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371600" cy="6858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5172b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924680" y="3733920"/>
            <a:ext cx="0" cy="45720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0120" y="4038480"/>
            <a:ext cx="533160" cy="0"/>
          </a:xfrm>
          <a:prstGeom prst="line">
            <a:avLst/>
          </a:prstGeom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2192400"/>
            <a:ext cx="47246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48720" y="3352680"/>
            <a:ext cx="0" cy="76212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963800"/>
            <a:ext cx="0" cy="45720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38880" y="3962520"/>
            <a:ext cx="838440" cy="0"/>
          </a:xfrm>
          <a:prstGeom prst="line">
            <a:avLst/>
          </a:prstGeom>
          <a:ln w="28440">
            <a:solidFill>
              <a:srgbClr val="5172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0920" y="2276280"/>
            <a:ext cx="5486400" cy="16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丸ｺﾞｼｯｸM-PRO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Click to edit the outline text format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2" marL="914400" algn="ctr">
              <a:spcBef>
                <a:spcPts val="4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丸ｺﾞｼｯｸM-PRO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  <a:p>
            <a:pPr lvl="3" marL="13716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4" marL="1828800" algn="ctr">
              <a:spcBef>
                <a:spcPts val="34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丸ｺﾞｼｯｸM-PRO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057400" y="2351160"/>
            <a:ext cx="548640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</a:rPr>
              <a:t>オープンソース下流開発フレームワーク </a:t>
            </a:r>
            <a:br>
              <a:rPr sz="2000"/>
            </a:b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「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en-GB" sz="2600" spc="-1" strike="noStrike">
                <a:solidFill>
                  <a:srgbClr val="000000"/>
                </a:solidFill>
                <a:latin typeface="HG丸ｺﾞｼｯｸM-PRO"/>
              </a:rPr>
              <a:t>」</a:t>
            </a:r>
            <a:br>
              <a:rPr sz="2600"/>
            </a:b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最新動向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ＭＳ Ｐゴシック"/>
              </a:rPr>
              <a:t>OSC2007 Tokyo/Spring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版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484280" y="4400640"/>
            <a:ext cx="640080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200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7.03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.</a:t>
            </a: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17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いがぴょん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伊賀 敏樹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)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f5f5f"/>
                </a:solidFill>
                <a:latin typeface="HG丸ｺﾞｼｯｸM-PRO"/>
              </a:rPr>
              <a:t>blanco Framework 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コミッ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  <p:sp>
        <p:nvSpPr>
          <p:cNvPr id="105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ファイル入出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ファイル定義書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CSV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Csv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3" name=""/>
          <p:cNvSpPr/>
          <p:nvPr/>
        </p:nvSpPr>
        <p:spPr>
          <a:xfrm>
            <a:off x="2482920" y="4078440"/>
            <a:ext cx="136980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52720" y="4108320"/>
            <a:ext cx="46069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 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ファイル入出力ソースコード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全体的な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中心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に書いたとおりのプログラムが作成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ドキュメントを変更したら、プログラムが自動的に変更され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ルーチンワーク的なコーディングを自動化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文字列変換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8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303120"/>
            <a:ext cx="7772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発表者自己紹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489800" cy="507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8A81-3B0F-4468-AB98-5CB77DA6463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Scrip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9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VB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文字列変換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多言語対応による特徴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ava, C#.NET, JavaScript, VB.NET, PHP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いった異なるプログラミング言語を 横断的に対応できる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基本パターン 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データベース</a:t>
            </a: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blanco Framework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の起源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定義書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プラグイン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ava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C#.NET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とは？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251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オープンソースのソースコード自動生成型フレームワーク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ライセンス 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: </a:t>
            </a: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GNU LGPL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xcel(*.xls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ファイル形式の様式を中心とした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ソースコード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Eclipse/Apache Ant (Java)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上で動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数十人月から数千人月規模のプロジェクトで適用実績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689BC-9815-4377-98B2-FAD4B64356D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835280" y="961920"/>
            <a:ext cx="5689440" cy="549144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用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483000"/>
            <a:ext cx="460872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PDO</a:t>
            </a: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ベース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の特徴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高速なデータベースアクセス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ストアドプロシージャ対応あり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除く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PHP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実行時ライブラリ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編集不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必要なソースコードを全て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省メモリ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大量データ件数の処理が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カーソルのスクロール方向が指定可能 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(Java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のみ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デッドロック・クエリタイムアウトのハンドリング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その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への取り組み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*.xls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ファイル読み込み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ＭＳ Ｐゴシック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日本語化パッチに取り組んでいます。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メーリングリストも運用しています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D18A-AEA6-45F8-BFA8-04AAE20B2122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SQL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整形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67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HG丸ｺﾞｼｯｸM-PRO"/>
              </a:rPr>
              <a:t>※</a:t>
            </a: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自動生成とは ほとんど関係ありません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前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整形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後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00240" y="1676520"/>
          <a:ext cx="67453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53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609480" y="38782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1280" y="5797440"/>
            <a:ext cx="8153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0000"/>
                </a:solidFill>
                <a:latin typeface="Times New Roman"/>
              </a:rPr>
              <a:t>ライブラリ版もありま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57400" y="2520360"/>
            <a:ext cx="5486400" cy="10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OSC2006 Tokyo/Fall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以降の変化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5f5f5f"/>
                </a:solidFill>
                <a:latin typeface="HG丸ｺﾞｼｯｸM-PRO"/>
              </a:rPr>
              <a:t>皆様から頂いた ご意見をもとに</a:t>
            </a: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新たに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, VB.NET 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自動生成に対応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2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Character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Message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Converter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StringGroup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※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SC2006 Tokyo/Fall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懇親会などで お寄せ頂いた ご意見をきっかけに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 (VB.NE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</a:rPr>
              <a:t>は未対応</a:t>
            </a:r>
            <a:r>
              <a:rPr b="0" lang="en-US" sz="2000" spc="-1" strike="noStrike">
                <a:solidFill>
                  <a:srgbClr val="000000"/>
                </a:solidFill>
                <a:latin typeface="HG丸ｺﾞｼｯｸM-PRO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の特長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076960" cy="465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低コスト </a:t>
            </a:r>
            <a:r>
              <a:rPr b="0" lang="en-GB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容易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GNU LGPL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単純な構造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が簡単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シンプルな操作性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複数言語対応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Java / C#.NET / JavaScript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/ </a:t>
            </a:r>
            <a:r>
              <a:rPr b="1" lang="en-GB" sz="2000" spc="-1" strike="noStrike">
                <a:solidFill>
                  <a:srgbClr val="ff0000"/>
                </a:solidFill>
                <a:latin typeface="HG丸ｺﾞｼｯｸM-PRO"/>
                <a:ea typeface="HG丸ｺﾞｼｯｸM-PRO"/>
              </a:rPr>
              <a:t>PHP / VB.NET</a:t>
            </a:r>
            <a:r>
              <a:rPr b="0" lang="en-GB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に対応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39480" indent="-3394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導入の柔軟性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表計算ソフトで記入するだけ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実行時ライブラリ不要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部分的導入も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35480" indent="-282960">
              <a:spcBef>
                <a:spcPts val="499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他のフレームワークとも併用可能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8364-7C42-423E-94C6-C5DBD9B603C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5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版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R/O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マッピング </a:t>
            </a: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Php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提供開始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2.29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HP 5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以降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PDO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ベースのデータベース入出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SQL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インジェクションの脅威を回避・予防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残念ながら私たちは実プロジェクト導入実績を知りません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→試用してみようというチャレンジャー募集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への取り組み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2006.11.01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メーリングリスト立ち上げ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JExcelApi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日本語化パッチの提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DbDotNet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ODP.NET (Oracle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対応に取り組み中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丸ｺﾞｼｯｸM-PRO"/>
              </a:rPr>
              <a:t>blanco Framework</a:t>
            </a:r>
            <a:r>
              <a:rPr b="0" lang="ja-JP" sz="2800" spc="-1" strike="noStrike">
                <a:solidFill>
                  <a:srgbClr val="000000"/>
                </a:solidFill>
                <a:latin typeface="HG丸ｺﾞｼｯｸM-PRO"/>
              </a:rPr>
              <a:t>に取り組んだなかで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 </a:t>
            </a:r>
            <a:r>
              <a:rPr b="0" lang="en-US" sz="2400" spc="-1" strike="noStrike">
                <a:solidFill>
                  <a:srgbClr val="000000"/>
                </a:solidFill>
                <a:latin typeface="HG丸ｺﾞｼｯｸM-PRO"/>
              </a:rPr>
              <a:t>(*.xls) </a:t>
            </a: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と それに対応するソースコードとがマッピングできれば、自動生成は実現可能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生成するプログラミング言語の差異は さほど重要ではない。むしろ雛形ソースコード作成の難易度が高い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プロジェクトによって ある程度のカスタマイズは必要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自動生成されたソースコードは変更しない！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ジェネレーションギャップ デザインパターン の採用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拡張が必要な場合は「クラスの継承」をおこなう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700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は意外に高い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Excel(*.xls)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XML 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変換が </a:t>
            </a:r>
            <a:r>
              <a:rPr b="0" lang="en-US" sz="1800" spc="-1" strike="noStrike">
                <a:solidFill>
                  <a:srgbClr val="000000"/>
                </a:solidFill>
                <a:latin typeface="HG丸ｺﾞｼｯｸM-PRO"/>
              </a:rPr>
              <a:t>CPU</a:t>
            </a: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コスト高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45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丸ｺﾞｼｯｸM-PRO"/>
              </a:rPr>
              <a:t>ソースコード自動生成コストを考慮したモジュール分割設計が必要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57400" y="2763720"/>
            <a:ext cx="548640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終わり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2209320" y="426708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HG丸ｺﾞｼｯｸM-PRO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HG丸ｺﾞｼｯｸM-PRO"/>
              </a:rPr>
              <a:t>適用工程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基本的に設計・製造工程を対象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403280" y="2421000"/>
            <a:ext cx="1295280" cy="765000"/>
            <a:chOff x="1403280" y="2421000"/>
            <a:chExt cx="1295280" cy="765000"/>
          </a:xfrm>
        </p:grpSpPr>
        <p:sp>
          <p:nvSpPr>
            <p:cNvPr id="115" name=""/>
            <p:cNvSpPr/>
            <p:nvPr/>
          </p:nvSpPr>
          <p:spPr>
            <a:xfrm>
              <a:off x="1403280" y="2421000"/>
              <a:ext cx="1295280" cy="76500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54480" y="2659680"/>
              <a:ext cx="90144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要件定義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422440" y="2276640"/>
            <a:ext cx="2003040" cy="1095120"/>
            <a:chOff x="2422440" y="2276640"/>
            <a:chExt cx="2003040" cy="1095120"/>
          </a:xfrm>
        </p:grpSpPr>
        <p:sp>
          <p:nvSpPr>
            <p:cNvPr id="118" name=""/>
            <p:cNvSpPr/>
            <p:nvPr/>
          </p:nvSpPr>
          <p:spPr>
            <a:xfrm>
              <a:off x="2422440" y="2276640"/>
              <a:ext cx="2003040" cy="1095120"/>
            </a:xfrm>
            <a:custGeom>
              <a:avLst/>
              <a:gdLst>
                <a:gd name="textAreaLeft" fmla="*/ 0 w 2003040"/>
                <a:gd name="textAreaRight" fmla="*/ 2003040 w 200304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21600" y="2432880"/>
              <a:ext cx="1520280" cy="801720"/>
            </a:xfrm>
            <a:custGeom>
              <a:avLst/>
              <a:gdLst>
                <a:gd name="textAreaLeft" fmla="*/ 0 w 1520280"/>
                <a:gd name="textAreaRight" fmla="*/ 1520640 w 15202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37560" y="2698920"/>
              <a:ext cx="57888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設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780000" y="2276640"/>
            <a:ext cx="1902960" cy="1095120"/>
            <a:chOff x="3780000" y="2276640"/>
            <a:chExt cx="1902960" cy="1095120"/>
          </a:xfrm>
        </p:grpSpPr>
        <p:sp>
          <p:nvSpPr>
            <p:cNvPr id="122" name=""/>
            <p:cNvSpPr/>
            <p:nvPr/>
          </p:nvSpPr>
          <p:spPr>
            <a:xfrm>
              <a:off x="3780000" y="2276640"/>
              <a:ext cx="1902960" cy="1095120"/>
            </a:xfrm>
            <a:custGeom>
              <a:avLst/>
              <a:gdLst>
                <a:gd name="textAreaLeft" fmla="*/ 0 w 1902960"/>
                <a:gd name="textAreaRight" fmla="*/ 1903320 w 19029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01840" y="2432880"/>
              <a:ext cx="1419840" cy="801720"/>
            </a:xfrm>
            <a:custGeom>
              <a:avLst/>
              <a:gdLst>
                <a:gd name="textAreaLeft" fmla="*/ 0 w 1419840"/>
                <a:gd name="textAreaRight" fmla="*/ 1420200 w 141984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9760" y="2698920"/>
              <a:ext cx="54792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製造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521320" y="2421000"/>
            <a:ext cx="1425240" cy="765000"/>
            <a:chOff x="5521320" y="2421000"/>
            <a:chExt cx="1425240" cy="765000"/>
          </a:xfrm>
        </p:grpSpPr>
        <p:sp>
          <p:nvSpPr>
            <p:cNvPr id="126" name=""/>
            <p:cNvSpPr/>
            <p:nvPr/>
          </p:nvSpPr>
          <p:spPr>
            <a:xfrm>
              <a:off x="5521320" y="2421000"/>
              <a:ext cx="1425240" cy="765000"/>
            </a:xfrm>
            <a:custGeom>
              <a:avLst/>
              <a:gdLst>
                <a:gd name="textAreaLeft" fmla="*/ 0 w 1425240"/>
                <a:gd name="textAreaRight" fmla="*/ 1425240 w 1425240"/>
                <a:gd name="textAreaTop" fmla="*/ 0 h 765000"/>
                <a:gd name="textAreaBottom" fmla="*/ 765360 h 7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88240" y="2659680"/>
              <a:ext cx="750960" cy="27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6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ja-JP" sz="1400" spc="-1" strike="noStrike">
                  <a:solidFill>
                    <a:srgbClr val="ffffff"/>
                  </a:solidFill>
                  <a:latin typeface="Times New Roman"/>
                  <a:ea typeface="HG丸ｺﾞｼｯｸM-PRO"/>
                </a:rPr>
                <a:t>テスト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3960720" y="3373560"/>
            <a:ext cx="1690920" cy="976320"/>
          </a:xfrm>
          <a:custGeom>
            <a:avLst/>
            <a:gdLst>
              <a:gd name="textAreaLeft" fmla="*/ 0 w 1690920"/>
              <a:gd name="textAreaRight" fmla="*/ 1691280 w 169092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373560"/>
            <a:ext cx="1943280" cy="992160"/>
          </a:xfrm>
          <a:custGeom>
            <a:avLst/>
            <a:gdLst>
              <a:gd name="textAreaLeft" fmla="*/ 0 w 1943280"/>
              <a:gd name="textAreaRight" fmla="*/ 1943640 w 194328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14560" y="3732120"/>
            <a:ext cx="11527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定義書記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92400" y="3710160"/>
            <a:ext cx="13003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ソースコード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400" spc="-1" strike="noStrike">
                <a:solidFill>
                  <a:srgbClr val="ff3399"/>
                </a:solidFill>
                <a:latin typeface="Times New Roman"/>
                <a:ea typeface="HG丸ｺﾞｼｯｸM-PRO"/>
              </a:rPr>
              <a:t>自動生成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8077320" cy="480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生産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単純作業を自動化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工数を削減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可読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均質なソースコードを自動生成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保守性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定義書の変更が即座にソースコードに反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仕様と実装が常に一致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lvl="1" marL="743040" indent="-28584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自動化・均質化・変更の確実な実施などの結果、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品質が向上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8472-EAD6-4691-BAC3-46D6C8214B5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導入のデメリット</a:t>
            </a:r>
            <a:endParaRPr b="0" lang="en-US" sz="3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90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規模増加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  <a:p>
            <a:pPr marL="343080" indent="-343080">
              <a:spcBef>
                <a:spcPts val="601"/>
              </a:spcBef>
              <a:buClr>
                <a:srgbClr val="5172b3"/>
              </a:buClr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丸ｺﾞｼｯｸM-PRO"/>
              </a:rPr>
              <a:t>ソースコード自動生成の時間</a:t>
            </a:r>
            <a:endParaRPr b="0" lang="en-US" sz="2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3F938-457B-45F9-817C-7E8A7BDFA1C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主要プロダク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3357720"/>
            <a:ext cx="2339640" cy="122364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24000" y="765000"/>
            <a:ext cx="3360600" cy="31323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43400" y="787320"/>
            <a:ext cx="2820960" cy="28209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76360" y="4005360"/>
            <a:ext cx="2844720" cy="262728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580000" y="3968640"/>
            <a:ext cx="2598840" cy="259884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72360" y="2673360"/>
            <a:ext cx="609840" cy="719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3"/>
            <a:endCxn id="142" idx="2"/>
          </p:cNvCxnSpPr>
          <p:nvPr/>
        </p:nvCxnSpPr>
        <p:spPr>
          <a:xfrm>
            <a:off x="7162920" y="3019320"/>
            <a:ext cx="1010160" cy="151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45" name=""/>
          <p:cNvSpPr/>
          <p:nvPr/>
        </p:nvSpPr>
        <p:spPr>
          <a:xfrm>
            <a:off x="6370560" y="4184640"/>
            <a:ext cx="10098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文字列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4186080"/>
            <a:ext cx="97164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電文送受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2000" y="90972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ファイル入出力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9040" y="966960"/>
            <a:ext cx="140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12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データベース関連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46800"/>
            <a:ext cx="719280" cy="71892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Clien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9" idx="3"/>
            <a:endCxn id="151" idx="1"/>
          </p:cNvCxnSpPr>
          <p:nvPr/>
        </p:nvCxnSpPr>
        <p:spPr>
          <a:xfrm flipV="1">
            <a:off x="1258560" y="5803200"/>
            <a:ext cx="75780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sp>
        <p:nvSpPr>
          <p:cNvPr id="152" name=""/>
          <p:cNvSpPr/>
          <p:nvPr/>
        </p:nvSpPr>
        <p:spPr>
          <a:xfrm>
            <a:off x="3924360" y="3825720"/>
            <a:ext cx="208764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lanco Framewor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43280" y="4616280"/>
            <a:ext cx="75708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処理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68720" y="565956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SD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24360" y="5372280"/>
            <a:ext cx="649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SDL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XML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16000" y="5551560"/>
            <a:ext cx="64944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Web Servi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Prox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16000" y="5048280"/>
            <a:ext cx="64944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電文クラス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95640" y="1379520"/>
            <a:ext cx="757080" cy="42228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可変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2171880"/>
            <a:ext cx="720720" cy="421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固定長）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95640" y="3000240"/>
            <a:ext cx="792000" cy="3859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71640" y="1452600"/>
            <a:ext cx="792360" cy="420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(</a:t>
            </a: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コード</a:t>
            </a:r>
            <a:r>
              <a:rPr b="0" lang="en-US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)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71640" y="2244600"/>
            <a:ext cx="792360" cy="420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71640" y="3000240"/>
            <a:ext cx="8380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リソースバンドル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1341360"/>
            <a:ext cx="647640" cy="6494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可変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2133720"/>
            <a:ext cx="647640" cy="64908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固定長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8360" y="3070080"/>
            <a:ext cx="770040" cy="770040"/>
          </a:xfrm>
          <a:prstGeom prst="rect">
            <a:avLst/>
          </a:prstGeom>
          <a:solidFill>
            <a:srgbClr val="eaeaea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プロパティ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96120" y="2084400"/>
            <a:ext cx="685800" cy="45720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SQL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59400" y="2803680"/>
            <a:ext cx="80352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DB</a:t>
            </a:r>
            <a:r>
              <a:rPr b="0" lang="ja-JP" sz="8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アクセサ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ソースコード）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3" idx="3"/>
            <a:endCxn id="160" idx="1"/>
          </p:cNvCxnSpPr>
          <p:nvPr/>
        </p:nvCxnSpPr>
        <p:spPr>
          <a:xfrm flipV="1">
            <a:off x="1115640" y="166284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68" name=""/>
          <p:cNvCxnSpPr>
            <a:stCxn id="165" idx="3"/>
            <a:endCxn id="162" idx="1"/>
          </p:cNvCxnSpPr>
          <p:nvPr/>
        </p:nvCxnSpPr>
        <p:spPr>
          <a:xfrm flipV="1">
            <a:off x="1238040" y="3228120"/>
            <a:ext cx="633960" cy="22788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69" name=""/>
          <p:cNvCxnSpPr>
            <a:stCxn id="164" idx="3"/>
            <a:endCxn id="161" idx="1"/>
          </p:cNvCxnSpPr>
          <p:nvPr/>
        </p:nvCxnSpPr>
        <p:spPr>
          <a:xfrm flipV="1">
            <a:off x="1115640" y="2455200"/>
            <a:ext cx="756360" cy="39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0" name=""/>
          <p:cNvCxnSpPr>
            <a:stCxn id="157" idx="1"/>
            <a:endCxn id="160" idx="3"/>
          </p:cNvCxnSpPr>
          <p:nvPr/>
        </p:nvCxnSpPr>
        <p:spPr>
          <a:xfrm flipH="1">
            <a:off x="2663280" y="1590840"/>
            <a:ext cx="432360" cy="734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1" name=""/>
          <p:cNvCxnSpPr>
            <a:stCxn id="158" idx="1"/>
            <a:endCxn id="161" idx="3"/>
          </p:cNvCxnSpPr>
          <p:nvPr/>
        </p:nvCxnSpPr>
        <p:spPr>
          <a:xfrm flipH="1">
            <a:off x="2663640" y="2382480"/>
            <a:ext cx="468720" cy="73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2" name=""/>
          <p:cNvCxnSpPr>
            <a:stCxn id="159" idx="1"/>
            <a:endCxn id="162" idx="3"/>
          </p:cNvCxnSpPr>
          <p:nvPr/>
        </p:nvCxnSpPr>
        <p:spPr>
          <a:xfrm flipH="1">
            <a:off x="2709360" y="3193560"/>
            <a:ext cx="386640" cy="3564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3" name=""/>
          <p:cNvCxnSpPr>
            <a:stCxn id="153" idx="2"/>
            <a:endCxn id="156" idx="3"/>
          </p:cNvCxnSpPr>
          <p:nvPr/>
        </p:nvCxnSpPr>
        <p:spPr>
          <a:xfrm flipH="1">
            <a:off x="2665080" y="5047920"/>
            <a:ext cx="558000" cy="18180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4" name=""/>
          <p:cNvCxnSpPr>
            <a:stCxn id="153" idx="2"/>
            <a:endCxn id="151" idx="3"/>
          </p:cNvCxnSpPr>
          <p:nvPr/>
        </p:nvCxnSpPr>
        <p:spPr>
          <a:xfrm flipH="1">
            <a:off x="2665080" y="5047920"/>
            <a:ext cx="558000" cy="756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5" name=""/>
          <p:cNvCxnSpPr>
            <a:stCxn id="153" idx="2"/>
            <a:endCxn id="155" idx="0"/>
          </p:cNvCxnSpPr>
          <p:nvPr/>
        </p:nvCxnSpPr>
        <p:spPr>
          <a:xfrm>
            <a:off x="3222360" y="5048280"/>
            <a:ext cx="127800" cy="32472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6" name=""/>
          <p:cNvCxnSpPr>
            <a:stCxn id="166" idx="2"/>
            <a:endCxn id="144" idx="0"/>
          </p:cNvCxnSpPr>
          <p:nvPr/>
        </p:nvCxnSpPr>
        <p:spPr>
          <a:xfrm>
            <a:off x="6738840" y="2515680"/>
            <a:ext cx="23040" cy="288360"/>
          </a:xfrm>
          <a:prstGeom prst="straightConnector1">
            <a:avLst/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cxnSp>
        <p:nvCxnSpPr>
          <p:cNvPr id="177" name=""/>
          <p:cNvCxnSpPr>
            <a:endCxn id="165" idx="2"/>
          </p:cNvCxnSpPr>
          <p:nvPr/>
        </p:nvCxnSpPr>
        <p:spPr>
          <a:xfrm flipV="1" rot="10800000">
            <a:off x="853200" y="3212640"/>
            <a:ext cx="2233080" cy="627840"/>
          </a:xfrm>
          <a:prstGeom prst="curvedConnector5">
            <a:avLst>
              <a:gd name="adj1" fmla="val 15285"/>
              <a:gd name="adj2" fmla="val 68100"/>
              <a:gd name="adj3" fmla="val 15285"/>
            </a:avLst>
          </a:prstGeom>
          <a:ln w="12600">
            <a:solidFill>
              <a:srgbClr val="969696"/>
            </a:solidFill>
            <a:miter/>
            <a:tailEnd len="med" type="arrow" w="med"/>
          </a:ln>
        </p:spPr>
      </p:cxnSp>
      <p:sp>
        <p:nvSpPr>
          <p:cNvPr id="178" name=""/>
          <p:cNvSpPr/>
          <p:nvPr/>
        </p:nvSpPr>
        <p:spPr>
          <a:xfrm>
            <a:off x="1798560" y="123336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  <a:ea typeface="MS UI Gothic"/>
              </a:rPr>
              <a:t>blancoCsv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98560" y="123660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560" y="2028960"/>
            <a:ext cx="900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FixedLength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798560" y="2028960"/>
            <a:ext cx="2197080" cy="68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98560" y="2820960"/>
            <a:ext cx="2197080" cy="684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06560" y="2855880"/>
            <a:ext cx="1044720" cy="10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entury Gothic"/>
              </a:rPr>
              <a:t>blancoResourceBundl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4543560"/>
            <a:ext cx="68436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O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71640" y="4471920"/>
            <a:ext cx="2052720" cy="1728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80120" y="1795320"/>
            <a:ext cx="68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Db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35760" y="1758960"/>
            <a:ext cx="1415880" cy="1620720"/>
          </a:xfrm>
          <a:custGeom>
            <a:avLst/>
            <a:gdLst>
              <a:gd name="textAreaLeft" fmla="*/ 69120 w 1415880"/>
              <a:gd name="textAreaRight" fmla="*/ 1346760 w 1415880"/>
              <a:gd name="textAreaTop" fmla="*/ 69120 h 1620720"/>
              <a:gd name="textAreaBottom" fmla="*/ 1551600 h 1620720"/>
            </a:gdLst>
            <a:ahLst/>
            <a:rect l="textAreaLeft" t="textAreaTop" r="textAreaRight" b="textAreaBottom"/>
            <a:pathLst>
              <a:path w="21600" h="24724">
                <a:moveTo>
                  <a:pt x="3600" y="0"/>
                </a:moveTo>
                <a:arcTo wR="3600" hR="3600" stAng="16200000" swAng="-5400000"/>
                <a:lnTo>
                  <a:pt x="0" y="21124"/>
                </a:lnTo>
                <a:arcTo wR="3600" hR="3600" stAng="10800000" swAng="-5400000"/>
                <a:lnTo>
                  <a:pt x="18000" y="2472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43760" y="1363680"/>
            <a:ext cx="1152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qlEditorPlug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99040" y="1327320"/>
            <a:ext cx="1476360" cy="32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35640" y="4581360"/>
            <a:ext cx="11145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Mess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99280" y="4545000"/>
            <a:ext cx="1150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99280" y="4941720"/>
            <a:ext cx="115236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haracter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83280" y="4903920"/>
            <a:ext cx="158292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7280" y="566100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Grou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62560" y="5624640"/>
            <a:ext cx="129564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5300640"/>
            <a:ext cx="1044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StringConver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9640" y="5264280"/>
            <a:ext cx="154800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70560" y="6021360"/>
            <a:ext cx="111780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blancoConstant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334200" y="5985000"/>
            <a:ext cx="1189080" cy="252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39720" y="299880"/>
            <a:ext cx="66499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ＭＳ Ｐゴシック"/>
              </a:rPr>
              <a:t>blanco Framework </a:t>
            </a:r>
            <a:r>
              <a:rPr b="0" lang="ja-JP" sz="3200" spc="-1" strike="noStrike">
                <a:solidFill>
                  <a:srgbClr val="000000"/>
                </a:solidFill>
                <a:latin typeface="ＭＳ Ｐゴシック"/>
              </a:rPr>
              <a:t>動作原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486560" y="368136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M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86560" y="2852640"/>
            <a:ext cx="64944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ソース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コー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73360"/>
            <a:ext cx="169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1628640"/>
            <a:ext cx="3241440" cy="3024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50920" y="3139920"/>
            <a:ext cx="935280" cy="576360"/>
          </a:xfrm>
          <a:prstGeom prst="rightArrow">
            <a:avLst>
              <a:gd name="adj1" fmla="val 50000"/>
              <a:gd name="adj2" fmla="val 40568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25800" y="328464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読み込み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421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08720" y="3141720"/>
            <a:ext cx="934920" cy="576360"/>
          </a:xfrm>
          <a:prstGeom prst="rightArrow">
            <a:avLst>
              <a:gd name="adj1" fmla="val 50000"/>
              <a:gd name="adj2" fmla="val 40553"/>
            </a:avLst>
          </a:prstGeom>
          <a:solidFill>
            <a:srgbClr val="c0c0c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81800" y="3284640"/>
            <a:ext cx="71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書き出し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64360" y="490536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すぐに使えるソースコード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・実行時ライブラリ不要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40000" y="2529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TBP丸ｺﾞｼｯｸR"/>
              </a:rPr>
              <a:t>記入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16360" y="4941720"/>
            <a:ext cx="2195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容易なインストール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および実行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80360" y="1160640"/>
            <a:ext cx="1150920" cy="1079280"/>
          </a:xfrm>
          <a:prstGeom prst="wedgeRectCallout">
            <a:avLst>
              <a:gd name="adj1" fmla="val -18138"/>
              <a:gd name="adj2" fmla="val 87648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C#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JavaScrip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VB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PH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0720" y="4976640"/>
            <a:ext cx="2087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表計算ソフトを使って</a:t>
            </a:r>
            <a:br>
              <a:rPr sz="1600"/>
            </a:br>
            <a:r>
              <a:rPr b="0" lang="ja-JP" sz="1600" spc="-1" strike="noStrike">
                <a:solidFill>
                  <a:srgbClr val="ff0066"/>
                </a:solidFill>
                <a:latin typeface="TBP丸ｺﾞｼｯｸR"/>
                <a:ea typeface="TBP丸ｺﾞｼｯｸR"/>
              </a:rPr>
              <a:t>記入するだけ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1951200"/>
            <a:ext cx="1295280" cy="1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xcel / OpenOff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64000" y="3860640"/>
            <a:ext cx="2232000" cy="50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64000" y="256392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08360" y="400356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ava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実行環境 </a:t>
            </a: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1.4.2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以降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08360" y="27068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JExcelApi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64000" y="1916280"/>
            <a:ext cx="223200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2058840"/>
            <a:ext cx="194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blanco</a:t>
            </a:r>
            <a:r>
              <a:rPr b="1" lang="ja-JP" sz="1300" spc="-1" strike="noStrike">
                <a:solidFill>
                  <a:srgbClr val="000000"/>
                </a:solidFill>
                <a:latin typeface="Century Gothic"/>
              </a:rPr>
              <a:t>＊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7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14920" y="32115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19640" y="335448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Apache An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3354480"/>
            <a:ext cx="107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0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entury Gothic"/>
              </a:rPr>
              <a:t>Eclip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55640" y="3068640"/>
            <a:ext cx="1152360" cy="720720"/>
          </a:xfrm>
          <a:prstGeom prst="flowChartDocument">
            <a:avLst/>
          </a:prstGeom>
          <a:solidFill>
            <a:srgbClr val="c3ffe7">
              <a:alpha val="60000"/>
            </a:srgbClr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定義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（</a:t>
            </a:r>
            <a:r>
              <a:rPr b="0" lang="en-US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XLS</a:t>
            </a:r>
            <a:r>
              <a:rPr b="0" lang="ja-JP" sz="900" spc="-1" strike="noStrike">
                <a:solidFill>
                  <a:srgbClr val="000000"/>
                </a:solidFill>
                <a:latin typeface="HG丸ｺﾞｼｯｸM-PRO"/>
                <a:ea typeface="HG丸ｺﾞｼｯｸM-PRO"/>
              </a:rPr>
              <a:t>ファイル）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7-03-16T06:42:30Z</dcterms:modified>
  <cp:revision>487</cp:revision>
  <dc:subject/>
  <dc:title>blanco Framework ご紹介</dc:title>
</cp:coreProperties>
</file>