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16360" y="-36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901800" y="739440"/>
            <a:ext cx="492912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898200" y="4686480"/>
            <a:ext cx="493380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937224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16360" y="9372240"/>
            <a:ext cx="2914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A0FEBF-27C6-4CB1-AD1F-EE6059CD31FD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901800" y="73980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898560" y="4686120"/>
            <a:ext cx="493560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3A3D-33A8-4847-B491-ED8921DCE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D814-612A-44A5-9C46-4468344ED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77A9-2774-48A8-ADBD-928563A45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7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18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7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18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54ED-26CC-47D3-A5ED-7330E3CD0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1A05C-9303-4D45-A512-94DEE510D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805E6-02B6-4ECB-9F61-DFFE98C27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3B329-0DAE-490D-8007-452AC85F6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58E4F-0F23-49FE-AA7D-6EE70DE6C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CA205-DB2F-4281-B9AD-F896F3F20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440" y="2141640"/>
            <a:ext cx="7767720" cy="66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C711E-2E16-4ACA-BDD5-79BA810F7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03689-5D96-4614-981D-3E86DEBF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2E7F-6F6B-4990-93DE-B8CFD2C9B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6D368-432D-4D7A-9AC1-AACFE6CB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8A0A4-F033-41DD-9865-1C855527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F07DB-A5D4-48C1-8A70-826E88AB3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DAAAF-5ECA-47B2-8BB0-68F3C59D4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18840" y="16048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18840" y="3968280"/>
            <a:ext cx="264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D8095-593D-43F6-B726-39EA42D8B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10BB-68FD-482A-AFFC-695B5DF98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A948-71DF-44E1-BDF2-D3D25601F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79EC-4C16-46F8-B545-20A3A5F7E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440" y="2141640"/>
            <a:ext cx="7767720" cy="66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882A-5962-4FD1-91D1-8616F4B81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797A-F0D6-44E7-B2AA-BAE38392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1720" y="39682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E504-176B-40FF-9FA7-2501DC51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1720" y="1604880"/>
            <a:ext cx="40136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49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B2D0-4BA3-496D-A5CA-1748A4C9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080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172200"/>
            <a:ext cx="19004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8E579E-BB69-45AD-94EF-D3DA039A7C44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/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2141640"/>
            <a:ext cx="7767720" cy="142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008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080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172200"/>
            <a:ext cx="190044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F8E1E16-8707-4995-858B-BCF4199926BE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49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6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40560"/>
            <a:ext cx="7772400" cy="14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blanco Framework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ご紹介 </a:t>
            </a:r>
            <a:br>
              <a:rPr sz="4400"/>
            </a:b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            </a:t>
            </a: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KOF 2006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版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2006.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いがぴょん 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伊賀 敏樹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lanco Framework </a:t>
            </a: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コミッ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304920"/>
            <a:ext cx="1218960" cy="368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Times New Roman"/>
              </a:rPr>
              <a:t>公開文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C8C99-21CB-440F-A4D3-04786753095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全体的な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ドキュメントに書いたとおりのプログラムが作成でき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ドキュメントを変更したら、プログラムが自動的に変更される。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ルーチンワーク的なコーディングを自動化でき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データベース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5977080" cy="5506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447920" y="3678120"/>
            <a:ext cx="73152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フラッグシップ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 EE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7632720" cy="5624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780000" y="5373720"/>
            <a:ext cx="136836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24360" y="45086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R/O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95280" y="1025640"/>
            <a:ext cx="8424720" cy="5283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 EE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高速なデータベースアクセ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ストアドプロシージャ対応あり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必要なソースコードを全て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省メモリ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大量データ件数の処理が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カーソルのスクロール方向が指定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.net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619280" y="1052640"/>
            <a:ext cx="6332400" cy="55782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447920" y="3678120"/>
            <a:ext cx="73152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NET</a:t>
            </a: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有マス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941400" y="1096920"/>
            <a:ext cx="7734240" cy="55008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DotNet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51280" y="5157720"/>
            <a:ext cx="136836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211640" y="45086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R/O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204920" y="971640"/>
            <a:ext cx="6751800" cy="56196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DbDot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高速なデータベースアクセ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ストアドプロシージャ対応あり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必要なソースコードを全て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省メモリ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大量データ件数の処理が可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発表者自己紹介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7848720" cy="555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B612-08CE-4BBA-A89F-AF20952384A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関連ツール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: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整形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前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228600" y="1947960"/>
          <a:ext cx="8686800" cy="31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47960"/>
                    <a:ext cx="8686800" cy="31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685800" y="5410080"/>
            <a:ext cx="815328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6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メニューから整形を実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関連ツール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: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整形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後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200240" y="1676520"/>
          <a:ext cx="6743520" cy="48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1676520"/>
                    <a:ext cx="6743520" cy="48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609480" y="5410080"/>
            <a:ext cx="815364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9600" spc="-1" strike="noStrike">
                <a:solidFill>
                  <a:srgbClr val="ff0000"/>
                </a:solidFill>
                <a:latin typeface="Times New Roman"/>
              </a:rPr>
              <a:t>ﾀﾞｳﾝﾛｰﾄﾞ最多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NSI SQ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カラー表示機能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ANSI SQL89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aa00ff"/>
                </a:solidFill>
                <a:latin typeface="Arial"/>
              </a:rPr>
              <a:t>ANSI SQL9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5500ff"/>
                </a:solidFill>
                <a:latin typeface="Arial"/>
              </a:rPr>
              <a:t>ANSI SQL99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RUNCATE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などのメジャーな 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しかし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NSI SQL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には含まれない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) </a:t>
            </a:r>
            <a:r>
              <a:rPr b="1" lang="ja-JP" sz="3200" spc="-1" strike="noStrike">
                <a:solidFill>
                  <a:srgbClr val="0000ff"/>
                </a:solidFill>
                <a:latin typeface="Arial"/>
              </a:rPr>
              <a:t>キーワード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00aa00"/>
                </a:solidFill>
                <a:latin typeface="Arial"/>
              </a:rPr>
              <a:t>コメント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Arial"/>
              </a:rPr>
              <a:t>文字列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8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オンライン・バッチ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電文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973080" y="1071720"/>
            <a:ext cx="7559640" cy="54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電文処理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792000" y="1071720"/>
            <a:ext cx="7740720" cy="54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66720" y="1187280"/>
            <a:ext cx="7794720" cy="547236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OAP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82920" y="3070080"/>
            <a:ext cx="13687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51280" y="360504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66720" y="1079640"/>
            <a:ext cx="7974000" cy="521964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Web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サービス定義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WSDL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20720" y="1079640"/>
            <a:ext cx="7559640" cy="50400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XML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スキーマ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XSD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74640" y="1079640"/>
            <a:ext cx="7605720" cy="521964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7240" y="7293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blanco Framework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とは何か？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2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オープンソースの下流開発フレームワーク</a:t>
            </a:r>
            <a:br>
              <a:rPr sz="3200"/>
            </a:b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ライセンス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GNU LGP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xcel(*.xls)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ファイル形式の様式を中心とした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Java / C#.NET / JavaScript / VB.NET / PHP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ソースコード自動生成に対応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数十人月から数千人月規模のプロジェクトで適用実績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9BAC-FFAA-40BA-BFDB-E7B46FC877CB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39640" y="1079640"/>
            <a:ext cx="7740720" cy="540036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OAP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だれでも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b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サービス設計・製造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SDL / XML Schema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を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設定ファイル／ソースコードを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ッチ処理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08000" y="1224000"/>
            <a:ext cx="895356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11280" y="1036800"/>
            <a:ext cx="7921440" cy="53766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ッチ用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BatchProcess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の特徴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コマンドライン引数チェックロジックの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安心できるバッチプログラム製造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age()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自動生成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実行時ライブラリ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8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新細明體"/>
              </a:rPr>
              <a:t>XML</a:t>
            </a:r>
            <a:r>
              <a:rPr b="1" lang="zh-TW" sz="3200" spc="-1" strike="noStrike">
                <a:solidFill>
                  <a:srgbClr val="ffffff"/>
                </a:solidFill>
                <a:latin typeface="Arial"/>
              </a:rPr>
              <a:t>編集不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・文字列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517680" y="1108080"/>
            <a:ext cx="837540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blancoStringConverter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51280" y="324468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84360" y="1371600"/>
            <a:ext cx="8135640" cy="47214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050920" y="3646440"/>
            <a:ext cx="1368720" cy="503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68360" y="1022400"/>
            <a:ext cx="8280360" cy="535932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6740640" cy="55785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#.NET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46512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５プログラミング言語に対応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2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新たに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B.NET , PHP 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自動生成に対応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av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#.N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JavaScrip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B.N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71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H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8040" indent="0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ソースコード自動生成は多プログラミング言語対応時代に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32040" y="1058760"/>
            <a:ext cx="7385040" cy="524988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JavaScript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Scrip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VB.NET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8281800" cy="49388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VB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7417080" cy="52876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変換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P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19280" y="4338720"/>
            <a:ext cx="626580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PHP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グループ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662616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文字列グループ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7848720" cy="46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メッセージ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68360" y="1069920"/>
            <a:ext cx="828036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バリューオブジェクト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77068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数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87480" y="1154160"/>
            <a:ext cx="8969040" cy="45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定義書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固定長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74600" y="1646280"/>
            <a:ext cx="879480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7240" y="72936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基本パター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17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表計算ソフトで定義書の記入をす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Eclipse</a:t>
            </a: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プラグインのボタンを押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4440" indent="-33444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ja-JP" sz="3200" spc="-1" strike="noStrike">
                <a:solidFill>
                  <a:srgbClr val="ffffff"/>
                </a:solidFill>
                <a:latin typeface="Arial"/>
              </a:rPr>
              <a:t>ソースコードが自動生成され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C7B6-B0B8-467D-A0CB-69FDA1AE4C85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324000" y="1838160"/>
            <a:ext cx="8532720" cy="411192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FixedLength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924360" y="242100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708360" y="3141720"/>
            <a:ext cx="46087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95640" y="4581360"/>
            <a:ext cx="46087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リソースバンドル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20760" y="1204920"/>
            <a:ext cx="864396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826920" y="2133720"/>
            <a:ext cx="7704360" cy="32004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blancoResourceBundle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908000" y="4078440"/>
            <a:ext cx="136872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51280" y="39337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09080" cy="272412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ロパティファイル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835280" y="3301920"/>
            <a:ext cx="676908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.properties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064360" cy="550404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プロパティファイル 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Java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システム関連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サービス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49780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611280" y="1947960"/>
            <a:ext cx="8280360" cy="328140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Service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908000" y="4078440"/>
            <a:ext cx="136872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51280" y="39337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1280" y="5300640"/>
            <a:ext cx="7993080" cy="9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41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Java</a:t>
            </a: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アプリ簡単常駐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AntTask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定義書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03320" y="1752480"/>
            <a:ext cx="8939160" cy="335304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611280" y="5300640"/>
            <a:ext cx="7993080" cy="9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41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らくらく</a:t>
            </a: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Ant</a:t>
            </a:r>
            <a:r>
              <a:rPr b="1" lang="ja-JP" sz="6600" spc="-1" strike="noStrike">
                <a:solidFill>
                  <a:srgbClr val="ff0000"/>
                </a:solidFill>
                <a:latin typeface="Times New Roman"/>
              </a:rPr>
              <a:t>タスク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第二世代ソースコード自動生成は、</a:t>
            </a:r>
            <a:br>
              <a:rPr sz="4000"/>
            </a:b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複数プログラミング言語対応！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rite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ocument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Once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un Anywher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ファイル定義書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(CSV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9320" y="1228680"/>
            <a:ext cx="904536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イノベーションは</a:t>
            </a:r>
            <a:br>
              <a:rPr sz="4400"/>
            </a:b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　　オープンソースから！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imes New Roman"/>
              </a:rPr>
              <a:t>生産性・保守性・品質を劇的向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767720" cy="14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 Framework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をよろしく！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70400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247572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終わり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2057400" y="4248000"/>
            <a:ext cx="6400800" cy="175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A0388-B2E0-4133-835C-131E12BBAF75}" type="slidenum">
              <a:t>62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7345440" cy="366732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blancoCsv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cbcbcb"/>
                </a:solidFill>
                <a:latin typeface="Times New Roman"/>
              </a:rPr>
              <a:t>プラグイン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82920" y="4078440"/>
            <a:ext cx="1368360" cy="502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51280" y="4108320"/>
            <a:ext cx="4608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ja-JP" sz="4000" spc="-1" strike="noStrike">
                <a:solidFill>
                  <a:srgbClr val="339933"/>
                </a:solidFill>
                <a:latin typeface="Times New Roman"/>
              </a:rPr>
              <a:t>ボタンを押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848360" cy="53355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ファイル入出力 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Java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848720" cy="5580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776772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例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: </a:t>
            </a:r>
            <a:r>
              <a:rPr b="0" lang="ja-JP" sz="4000" spc="-1" strike="noStrike">
                <a:solidFill>
                  <a:srgbClr val="cbcbcb"/>
                </a:solidFill>
                <a:latin typeface="Times New Roman"/>
              </a:rPr>
              <a:t>ファイル入出力ソースコード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76720" y="4338720"/>
            <a:ext cx="460836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6000"/>
              </a:lnSpc>
              <a:spcBef>
                <a:spcPts val="6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</a:rPr>
              <a:t>C#.NET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db</cp:lastModifiedBy>
  <dcterms:modified xsi:type="dcterms:W3CDTF">2006-11-15T06:35:53Z</dcterms:modified>
  <cp:revision>313</cp:revision>
  <dc:subject/>
  <dc:title>blanco Framework ご紹介</dc:title>
</cp:coreProperties>
</file>