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45A-44B0-40CA-947E-C520A43F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87C3-626A-4EFB-B46E-9849D76C4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5525-F1D9-4006-8212-BBA951A7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255-1429-455B-AFA8-D1DEA20C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738-62B6-4F15-B12A-FCBA3C15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60F8-AE46-41EF-A6AF-3A9E4FE8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0810-FF46-49F0-9DEF-C4D751630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E9C-3FA4-496B-8F9E-9147289B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812-C5CF-4F36-B279-88061FA9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8A1-C161-4DD8-BE49-E886AC97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2E4A-BA64-4363-BA21-11D07D84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1BF-E72E-43F1-85AD-4C121C33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A9DD-2F50-498C-9C8C-46BFD7DAE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16360" y="4941720"/>
            <a:ext cx="18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400"/>
            </a:br>
            <a:r>
              <a:rPr b="0" lang="zh-CN" sz="14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8600"/>
            <a:ext cx="54720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 Black"/>
                <a:ea typeface="TBP丸ｺﾞｼｯｸR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TBP丸ｺﾞｼｯｸR"/>
                <a:ea typeface="TBP丸ｺﾞｼｯｸR"/>
              </a:rPr>
              <a:t>動作原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12640"/>
            <a:ext cx="179280" cy="3589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zh-CN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zh-CN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7A1-8244-41D9-82C7-6BB0763D54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4T07:32:30Z</dcterms:created>
  <dc:creator/>
  <dc:description/>
  <dc:language>en-US</dc:language>
  <cp:lastModifiedBy>ｎｂｂ</cp:lastModifiedBy>
  <dcterms:modified xsi:type="dcterms:W3CDTF">2007-03-16T02:15:57Z</dcterms:modified>
  <cp:revision>219</cp:revision>
  <dc:subject/>
  <dc:title>blanco Framework　システム構成</dc:title>
</cp:coreProperties>
</file>