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D72F5-669F-4233-8AA3-2F2E47FA029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E59F-5EDF-48C1-8828-1D738B1E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C258-B602-4A48-A868-C2CF21DF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0D3-0F7D-4F7F-877E-727B88D6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EAE2-A35D-4A64-9339-A0ABDD5F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5D6D-4D3A-4ACD-AA5C-BDD278C09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AA2D-34BE-4A6A-BB44-48046CAA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65A9-F97B-40A7-A3CB-259B8C44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72C9-5C27-4D46-82CE-7B5AE464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72DD-1322-4779-923B-4DA47BEA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088E-4547-444C-972E-34CBC00D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757D-DE19-4FC6-BA58-D98CDBE3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FD6E-0C34-4081-8ADC-A5C35B44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009A-9EB8-4E6C-9E93-DF11767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ED04-777D-4B08-8CB3-247DCA9D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97D0-0785-4515-BB6E-42C16958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58DC-0176-4437-98B2-1DC6DA2D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8CB3-92C2-4A9C-9C8E-4F875212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731B-1C49-476A-A841-7A5C052B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4115-9F26-45B6-AE4C-5C9016F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45DB-6F49-429A-A641-446E49D1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F20-3527-4E6F-9682-EF210C0E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FCE8-547D-4650-B53D-2AD7631D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5863-EB7B-4C79-B9FB-B4A3581B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F56F-32CA-48EF-B869-7B26AC8F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A89E03-A541-4C45-897A-99823632B93D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05F4CFA-1A59-4AA7-A4D0-E2B16D091AEF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8054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ju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西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研究会 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98FE-6ECC-4BEB-BF3B-D286D78C392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設計理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よりどこ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風味の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が欲し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84760" y="144360"/>
            <a:ext cx="47196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特に意識している「定理」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スモール・イズ・ビューティフル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いものは美しい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一つのプログラムには一つのことをうまくやらせ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早く試作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効率より移植性を優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フトウェアを梃子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て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使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過度の対話的インタフェースを避け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べてのプログラムをフィルタとして設計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モール・イズ・ビューティフル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小さいものは美しい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シンプ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オブジェクト指向を使わな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すぐに使うことが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 , tail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コマンドなどを参考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動生成されたソースコードの実行時ライブラリを不要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2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一つのプログラムには一つのことをうまくやらせ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できるだけ機能を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ls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を見ただけで仕様が連想できるように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各プロダクトは互いに疎結合に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3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できるだけ早く試作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にかく試作してみ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4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効率より移植性を優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複数プログラミング言語のソースコード自動生成を実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最初は リファレンス実装を実現してい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6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フトウェアを梃子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てこ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して使う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ユーザが指定する必要のある項目を極力減ら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梃子の原理により、必要な入力項目を自動収集してしま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blancoDb: JDBC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ライバに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を試し打ち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文のメタ情報をデータベースから取得する。検索結果の列名や型情報をメタ情報から取得することにより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ueObject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やマッピングのようなことも自動収集で済ませてしまう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8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過度の対話的インタフェースを避け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ache Ant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または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による「寡黙な」インタフェー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小さなプロダクトの集合体による開発フレームワー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理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9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すべてのプログラムをフィルタとして設計す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ィルタ処理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バッチ処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として実装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: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形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*.xls)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に変換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: 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からソースコードを自動生成するフィルタ処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830-7EC1-46DD-96EF-E36D8449CD2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「さらなる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10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UNIX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考え方」か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部分の総和は全体よりも大きい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0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パーセントの解を目指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劣るほうが優れてい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具体的な </a:t>
            </a:r>
            <a:br>
              <a:rPr sz="4400"/>
            </a:b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ロダクト群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マッピングという考え方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-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E7E-E310-4009-B5A4-4E0342C4F70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8A4E-9799-4ABA-A226-3A83DE9CB146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908000" y="35002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3357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149720"/>
            <a:ext cx="7993080" cy="23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rc 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編集不要 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ﾄﾘｯｸ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F763-8CD5-4058-92ED-87FBB2491B86}" type="slidenum">
              <a:t>73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8:50:39Z</dcterms:modified>
  <cp:revision>465</cp:revision>
  <dc:subject/>
  <dc:title>blanco Framework ご紹介</dc:title>
</cp:coreProperties>
</file>