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CF7B8-3DFB-4D04-AF5D-345FC567D9B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6A3-F7F9-49E9-8C24-1DA404D3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3E78-3522-472D-91CA-4B74A121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15EA-3A0D-4A3B-BBE3-DE7C1396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CF2-8DAB-4715-9E65-278F0141D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3E35-A2AB-4570-956C-ED9D4D241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E72F-9216-428A-8AC7-4D8492E3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796A4-0561-4058-B0D2-F6F8DE25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BC683-DACC-44F4-9E32-855E466B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3725-9FDA-4FFE-AC1E-965643FD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BA83-E9ED-4529-8F09-88C25660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2EE2-6E25-43A3-AA68-D9F355D8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D31-320B-4F74-AE90-2FE883FC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097AA-86E9-47E2-99CE-4483EF8D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E4CA-C53E-4D18-9AC2-C60DC09A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E834-947F-45EB-AB74-AAB1A9E0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4DA1-99C9-42A1-9214-E289114C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1C01-34A2-418B-8C2D-FAC3E5B7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F04-9E0A-4416-9FD5-74E1DBD0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CCE-6D4C-4809-9A98-186B782D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E5D0-9E4E-453F-8C38-A48FF8E4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F8C1-47D2-442A-8A24-76DE85EE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27E0-CE54-4F78-BDE0-F44374B4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2E2D-B72E-4693-8B5F-988A60F1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4E6-201A-4060-85EA-DC16FB2F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652A2-533B-440F-82D4-FDBF9C362331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3731856-5787-4F2C-A576-CCD49415C509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     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OSC2006 Tokyo/Fal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2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711D-3382-439B-A589-BCEFBC2EE0B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49D4-04F5-47AF-8C91-E09818A124E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ava / C#.NET / JavaScript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3490-BF76-42A7-B74E-6F772261F92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272360" cy="36417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050920" y="314172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854B-C326-458F-9E59-5FB1BE37C1BF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次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B.NET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対応という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86D7-C165-4EFA-9220-869B83426B5D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do</cp:lastModifiedBy>
  <dcterms:modified xsi:type="dcterms:W3CDTF">2006-10-28T00:39:31Z</dcterms:modified>
  <cp:revision>298</cp:revision>
  <dc:subject/>
  <dc:title>blanco Framework ご紹介</dc:title>
</cp:coreProperties>
</file>