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88188" cy="10209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EF30-6D8B-4B43-A427-8498C6DE8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ED2B-48F4-4F8B-8D0F-0C6C20C35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42B8-F01A-448F-8170-3D8CC7B0B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D1A4-343A-4D2B-8ADB-C8114F189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E448-36A8-4D49-B9C6-09BF4D921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9192-BD6A-40CA-B63F-C958B7343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F6FB-72C0-41B2-8900-7AC2D1DD3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5459-C5F7-4C38-8CC2-83F9A5116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D3F4-D400-4C6D-A60D-5876287F4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ED8A-186A-4439-88AB-3A2BD3B67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F952-34A4-4EBE-B9C9-CA740A4EF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ECE8-B41A-4B89-8CE3-A797E3EB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13879-4F46-4A4C-B0D5-2430A951EC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773360"/>
            <a:ext cx="7632720" cy="417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249228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328464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4005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4653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5229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164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8472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00360" y="134136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69120" y="725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うそうそ帳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53720" y="28116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9/12/2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作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88120" y="62420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うまく出来るかしら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1:29:08Z</dcterms:created>
  <dc:creator>株式会社ＮＴＴデータビジネスブレインズ</dc:creator>
  <dc:description/>
  <dc:language>en-US</dc:language>
  <cp:lastModifiedBy>株式会社ＮＴＴデータビジネスブレインズ</cp:lastModifiedBy>
  <dcterms:modified xsi:type="dcterms:W3CDTF">2009-12-22T11:30:08Z</dcterms:modified>
  <cp:revision>2</cp:revision>
  <dc:subject/>
  <dc:title>スライド 1</dc:title>
</cp:coreProperties>
</file>