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088188" cy="10209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5CCBF-1211-4A14-B00F-62B68619A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B13BE-2F83-436E-B8F0-730BE268B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8517E-7DD5-4DDF-86FF-305275860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83F33-220F-42B3-A646-1B69D62C0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96350-F8E1-45C9-83B0-58E6919BB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0255B-399D-404D-8C63-5764EEBFB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1A8A9-D2C2-4493-A310-03DCE9ED4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301BC-2D83-4AC9-B7EA-96AE249A2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D5EF6-5A56-4CF7-8672-E5705E36F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FD3C4-080C-496C-AE71-D0E9CCD58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E3290-D41F-4B24-93E0-17E59E9E7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F7A2D-7EE4-4802-B8EE-B785E623F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29069-AAF0-4A72-8C3D-6D104D25DB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773360"/>
            <a:ext cx="7632720" cy="417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26920" y="249228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6920" y="328464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26920" y="400536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26920" y="465300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26920" y="522936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340000" y="177336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71640" y="177336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084720" y="177336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700360" y="1341360"/>
            <a:ext cx="345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669120" y="72540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うそうそ帳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53720" y="281160"/>
            <a:ext cx="187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9/12/2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作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888120" y="624204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うまく出来るかしら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2T11:29:08Z</dcterms:created>
  <dc:creator>株式会社ＮＴＴデータビジネスブレインズ</dc:creator>
  <dc:description/>
  <dc:language>en-US</dc:language>
  <cp:lastModifiedBy>株式会社ＮＴＴデータビジネスブレインズ</cp:lastModifiedBy>
  <dcterms:modified xsi:type="dcterms:W3CDTF">2009-12-22T11:30:08Z</dcterms:modified>
  <cp:revision>2</cp:revision>
  <dc:subject/>
  <dc:title>スライド 1</dc:title>
</cp:coreProperties>
</file>