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59018-4600-4B92-8388-D56E526DE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48E1F-6449-4CE8-B6FF-C832CC2188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EB8118-6618-4CC9-8214-08513F4649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029CDA-1952-4A99-B053-D3C72340C10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43D946-B23D-4CEB-BCC7-4DE93CCAB7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D8E5AA-3C06-42F9-AAD2-B379DDEAC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6414BC-7A1E-4816-A685-D3F7F82C08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F43AEE-3D6B-411F-9A6A-BBCB7FFED0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3B2C-FEDC-498B-A84B-8E3FD7F280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58DDFC-5332-40BC-A6A7-BE85DB86B5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0EB663-62AA-4902-A975-57DC89F54E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BDEA7B-3F52-45CB-AC32-ADC49AD986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CF34EC7-FFBC-45FA-89DB-6323E0A1B8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619440"/>
                <a:tab algn="l" pos="434340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3Z</dcterms:created>
  <dc:creator/>
  <dc:description/>
  <dc:language>en-US</dc:language>
  <cp:lastModifiedBy/>
  <dcterms:modified xsi:type="dcterms:W3CDTF">2010-05-07T05:15:32Z</dcterms:modified>
  <cp:revision>3</cp:revision>
  <dc:subject/>
  <dc:title/>
</cp:coreProperties>
</file>