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58F-B2EA-444A-9CD3-0455F27B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0F1-6E4A-4D6C-81B2-D5836A08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C74-C294-4656-8C84-C3F14A32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F0F-58C8-4340-83CF-395A01BD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0E7-1496-4352-B989-0262E6C9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981-A90B-4851-B959-BAB57A7E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9DA-ACB1-405B-83CE-BBF74079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545-5644-4D7C-8378-ECD3D9E6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452-89D9-48ED-8DCD-2FEF078B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C70-58FF-4F7C-AF79-53634F6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3F3-A466-420E-9ECB-AD78BBD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68C-2EA8-4F58-BAF8-A17CE662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C8F0-1AE3-40CB-B377-19E80BD33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027080"/>
            <a:ext cx="8303400" cy="4763880"/>
            <a:chOff x="457200" y="1027080"/>
            <a:chExt cx="8303400" cy="4763880"/>
          </a:xfrm>
        </p:grpSpPr>
        <p:sp>
          <p:nvSpPr>
            <p:cNvPr id="43" name=""/>
            <p:cNvSpPr/>
            <p:nvPr/>
          </p:nvSpPr>
          <p:spPr>
            <a:xfrm>
              <a:off x="3304800" y="5180040"/>
              <a:ext cx="5455800" cy="610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5" idx="2"/>
              <a:endCxn id="46" idx="1"/>
            </p:cNvCxnSpPr>
            <p:nvPr/>
          </p:nvCxnSpPr>
          <p:spPr>
            <a:xfrm flipH="1" rot="16200000">
              <a:off x="2306880" y="1401480"/>
              <a:ext cx="334800" cy="16617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7" name=""/>
            <p:cNvSpPr/>
            <p:nvPr/>
          </p:nvSpPr>
          <p:spPr>
            <a:xfrm>
              <a:off x="3304800" y="4332240"/>
              <a:ext cx="5455800" cy="610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4800" y="2806920"/>
              <a:ext cx="5455800" cy="142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Graphics IO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-level forma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CGM, EMF, PDF and SW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04800" y="2094840"/>
              <a:ext cx="5455800" cy="610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 Vector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027080"/>
              <a:ext cx="2372760" cy="1038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Dia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4800" y="1027080"/>
              <a:ext cx="5455800" cy="6102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Graphics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20:03:58Z</dcterms:modified>
  <cp:revision>27</cp:revision>
  <dc:subject/>
  <dc:title>Slide 1</dc:title>
</cp:coreProperties>
</file>