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628-DDF8-4DD9-AB33-FFE1382A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3C9-FF11-4B4E-899F-0234A008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91B-DFCB-45C5-8BA3-26188874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2C5-1329-4D0C-B164-3C4C3B13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EA5-189F-46C1-99B5-20EA1CDB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1E9-BFA4-45D6-8D98-6B592D3F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1E0-3F72-452D-8F63-0C54A02B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51A-7FC8-4004-BF92-18E53BEA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03F-D39E-4F86-9A78-7CCDE4DF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C039-A68F-42D7-A99E-2ED4DBE2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109-45F5-4A4B-B8BB-F498CA49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200-E173-4D64-8A68-58880980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D6CF-5993-4F04-BA97-B46625872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58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26760" y="4888800"/>
            <a:ext cx="1579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9920" y="5639400"/>
            <a:ext cx="17323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62000" y="2743920"/>
            <a:ext cx="12078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1280" y="4050360"/>
            <a:ext cx="209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360" y="626040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63440" y="565056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52240" y="4877640"/>
            <a:ext cx="2146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4080" y="2743920"/>
            <a:ext cx="2323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480" y="1688400"/>
            <a:ext cx="16894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040" y="4039200"/>
            <a:ext cx="2024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8000" y="697680"/>
            <a:ext cx="1448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1" idx="0"/>
            <a:endCxn id="53" idx="2"/>
          </p:cNvCxnSpPr>
          <p:nvPr/>
        </p:nvCxnSpPr>
        <p:spPr>
          <a:xfrm flipV="1" rot="16200000">
            <a:off x="3095640" y="62640"/>
            <a:ext cx="622800" cy="2629080"/>
          </a:xfrm>
          <a:prstGeom prst="bentConnector3">
            <a:avLst>
              <a:gd name="adj1" fmla="val 5002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50" idx="0"/>
            <a:endCxn id="51" idx="2"/>
          </p:cNvCxnSpPr>
          <p:nvPr/>
        </p:nvCxnSpPr>
        <p:spPr>
          <a:xfrm flipH="1" flipV="1" rot="5400000">
            <a:off x="3529440" y="1552680"/>
            <a:ext cx="687600" cy="1695600"/>
          </a:xfrm>
          <a:prstGeom prst="bentConnector3">
            <a:avLst>
              <a:gd name="adj1" fmla="val 5002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47" idx="0"/>
            <a:endCxn id="50" idx="2"/>
          </p:cNvCxnSpPr>
          <p:nvPr/>
        </p:nvCxnSpPr>
        <p:spPr>
          <a:xfrm flipH="1" flipV="1" rot="5400000">
            <a:off x="765720" y="4000320"/>
            <a:ext cx="3148560" cy="137196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7" name=""/>
          <p:cNvCxnSpPr>
            <a:stCxn id="43" idx="0"/>
            <a:endCxn id="45" idx="2"/>
          </p:cNvCxnSpPr>
          <p:nvPr/>
        </p:nvCxnSpPr>
        <p:spPr>
          <a:xfrm flipH="1" flipV="1" rot="5400000">
            <a:off x="6502680" y="3425760"/>
            <a:ext cx="1776960" cy="114948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8" name=""/>
          <p:cNvCxnSpPr>
            <a:stCxn id="44" idx="0"/>
            <a:endCxn id="45" idx="2"/>
          </p:cNvCxnSpPr>
          <p:nvPr/>
        </p:nvCxnSpPr>
        <p:spPr>
          <a:xfrm flipV="1" rot="16200000">
            <a:off x="6702120" y="4375440"/>
            <a:ext cx="2527560" cy="720"/>
          </a:xfrm>
          <a:prstGeom prst="bentConnector3">
            <a:avLst>
              <a:gd name="adj1" fmla="val 5001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9" idx="0"/>
            <a:endCxn id="50" idx="2"/>
          </p:cNvCxnSpPr>
          <p:nvPr/>
        </p:nvCxnSpPr>
        <p:spPr>
          <a:xfrm flipV="1" rot="16200000">
            <a:off x="2342880" y="3795120"/>
            <a:ext cx="1765800" cy="399960"/>
          </a:xfrm>
          <a:prstGeom prst="bentConnector3">
            <a:avLst>
              <a:gd name="adj1" fmla="val 5002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8" idx="0"/>
            <a:endCxn id="49" idx="2"/>
          </p:cNvCxnSpPr>
          <p:nvPr/>
        </p:nvCxnSpPr>
        <p:spPr>
          <a:xfrm flipH="1" flipV="1" rot="5400000">
            <a:off x="3219840" y="5445360"/>
            <a:ext cx="405000" cy="6480"/>
          </a:xfrm>
          <a:prstGeom prst="bentConnector3">
            <a:avLst>
              <a:gd name="adj1" fmla="val 5008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6" idx="0"/>
            <a:endCxn id="51" idx="2"/>
          </p:cNvCxnSpPr>
          <p:nvPr/>
        </p:nvCxnSpPr>
        <p:spPr>
          <a:xfrm rot="16200000">
            <a:off x="3724200" y="3053520"/>
            <a:ext cx="199404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52" idx="0"/>
            <a:endCxn id="53" idx="2"/>
          </p:cNvCxnSpPr>
          <p:nvPr/>
        </p:nvCxnSpPr>
        <p:spPr>
          <a:xfrm flipH="1" flipV="1" rot="5400000">
            <a:off x="189360" y="2136600"/>
            <a:ext cx="2973600" cy="832320"/>
          </a:xfrm>
          <a:prstGeom prst="bentConnector3">
            <a:avLst>
              <a:gd name="adj1" fmla="val 5000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710760" y="62485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3160" y="15228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21Z</dcterms:modified>
  <cp:revision>26</cp:revision>
  <dc:subject/>
  <dc:title>Slide 1</dc:title>
</cp:coreProperties>
</file>