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34743-1C35-4721-A061-17D1DAF30B6C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A924D-4371-4E19-A68C-1F83B420C9E8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D78E6-455C-4FEA-A923-3ADEC3008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70915-A877-4E2C-AE70-5C3F0C9C4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7670F-AC75-47CB-893E-7CEA772B3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516E1-2567-4E48-A014-87094FA5B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7BE52-1116-490D-AFF3-8409FA200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D5EED-37C6-42A2-9FF7-8F16D6F01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F1BCE-7E8A-4393-BFD6-CBD772391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4FF0D-7EEE-4AC4-9648-7D1C91947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E6FB6-FDFD-438A-BF26-CF7F5F5ED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6F674-33AD-4FEB-AE59-9C77D2187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95301-EDDE-4D4A-8243-0A0852D43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05A0C-92D6-48CC-BB00-508CDE35F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BBA36-1341-48C5-97AB-50B6DE2C07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2-23T10:28:37Z</dcterms:modified>
  <cp:revision>49</cp:revision>
  <dc:subject/>
  <dc:title>スライド 1</dc:title>
</cp:coreProperties>
</file>