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F3EB-FDCF-47A5-B82B-30CB27EB2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308A-9A86-466A-86F3-47FAB6D8B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70D0-E022-492A-92B1-B84347B9B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222C-D435-4148-AE09-1D2C388D8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9138-A802-481E-809C-8D75E1494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835E-934F-4A0B-BFAD-6879836C8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02AC-DB29-4006-BDF3-E350A25D9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B69F-461F-4B63-89C0-02C7211FF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D16A-898F-4FD5-A135-9629B2AF9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6F2E-94D7-4545-BC4C-DD4C812E9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D54F-0669-4577-8E07-3D8CCC0BE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7F0E-4281-49D2-B41A-9C5E28A3E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1E91B-1DB8-4F5B-B14F-465BD90567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X11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転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87640" y="69228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アプリケーショ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87640" y="2852640"/>
            <a:ext cx="2448000" cy="86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87640" y="501336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5280" y="414972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6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35280" y="206064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3528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1636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1636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43750"/>
              <a:gd name="adj4" fmla="val 1310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2781360"/>
            <a:ext cx="2087640" cy="865080"/>
          </a:xfrm>
          <a:prstGeom prst="wedgeRectCallout">
            <a:avLst>
              <a:gd name="adj1" fmla="val 69314"/>
              <a:gd name="adj2" fmla="val 122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handle_SSH2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WD_received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UTIL_sock_buffered_writ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blocking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2340000" y="4292280"/>
            <a:ext cx="574560" cy="1081080"/>
          </a:xfrm>
          <a:custGeom>
            <a:avLst/>
            <a:gdLst>
              <a:gd name="textAreaLeft" fmla="*/ 76680 w 574560"/>
              <a:gd name="textAreaRight" fmla="*/ 497880 w 57456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4221000"/>
            <a:ext cx="2087640" cy="865440"/>
          </a:xfrm>
          <a:prstGeom prst="wedgeRectCallout">
            <a:avLst>
              <a:gd name="adj1" fmla="val 56768"/>
              <a:gd name="adj2" fmla="val 140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FD_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write_local_connection_buffer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UTIL_sock_write_mor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2852640"/>
            <a:ext cx="2519640" cy="863640"/>
          </a:xfrm>
          <a:prstGeom prst="wedgeRectCallout">
            <a:avLst>
              <a:gd name="adj1" fmla="val -60837"/>
              <a:gd name="adj2" fmla="val 137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_local_connection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channel_sen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send_channel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0536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63462"/>
              <a:gd name="adj4" fmla="val -490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12-10-14T09:23:22Z</dcterms:modified>
  <cp:revision>355</cp:revision>
  <dc:subject/>
  <dc:title>DDEのしくみ</dc:title>
</cp:coreProperties>
</file>