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65AE-B657-4431-9BC7-A6270B968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E6F7-019C-4106-AD0D-783CE828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6014-CD69-4A1B-9FE0-B078A1C0C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F7A1-30A6-48FC-87E8-CB1A69EFB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452D-F4EC-4013-8C8F-6A72FA00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6938-3A5A-4C43-8B2D-AFF6A4A8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6F0E-8BC3-4501-8BA6-506B327B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7DFC-234E-4CA3-AB9F-8FF33107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62ED-F880-442B-B669-82BABC17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5F21-47A3-4E35-A068-DF63A4FC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3D50-2E5D-41C8-9E09-2B717615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3CF3-BDE2-4522-9B59-383D03CE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6FF3-E650-4A10-A873-6443DB250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67280" cy="443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572000"/>
            <a:ext cx="3657600" cy="4572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0292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334120"/>
            <a:ext cx="35049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400800" cy="136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590920"/>
            <a:ext cx="609840" cy="53316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312408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3505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90680" y="1909800"/>
            <a:ext cx="636264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2209680"/>
            <a:ext cx="5029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ファイル属性の確認。アーカイブ属性のみ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8195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読み取り専用属性と隠しファイル属性を付加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7339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隠しファイル属性を外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たかはしもとのぶ</cp:lastModifiedBy>
  <dcterms:modified xsi:type="dcterms:W3CDTF">2006-05-05T05:21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