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7645-085B-4617-8989-FF26125460E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10E0-4395-4907-8305-A408F17DD9E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30" idx="1"/>
            <a:endCxn id="129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5877000"/>
            <a:ext cx="3843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パティの型がインターフェイスであるこ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8" idx="1"/>
            <a:endCxn id="137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608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1"/>
            <a:endCxn id="142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/constructor/method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タグ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5791320"/>
            <a:ext cx="40924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new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1"/>
            <a:endCxn id="149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#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Enjoy shopping!"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#self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self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tructor inject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/method inj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よる初期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おこなうコンテナの一種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とも言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rtin Fowl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提案に応じ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略してダイコンといっ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この方向になるといわ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341360"/>
            <a:ext cx="768204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4492800"/>
            <a:ext cx="765180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"SOHC-V12 Twin turbo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15238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41148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tter/method injection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24360" y="472428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した複数の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分割した定義の読み込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.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dicon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dicon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red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yellow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95" idx="1"/>
            <a:endCxn id="97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6" idx="1"/>
            <a:endCxn id="115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5950080"/>
            <a:ext cx="44845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ダブ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6149880"/>
            <a:ext cx="30988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29T02:37:19Z</dcterms:modified>
  <cp:revision>116</cp:revision>
  <dc:subject/>
  <dc:title>スライド 1</dc:title>
</cp:coreProperties>
</file>