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CB2738A-EEE8-4201-A52F-5C81873E54B9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Arial"/>
              </a:rPr>
              <a:t>小～中規模システム開発のキラーフレームワー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本来やるべき仕事に集中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914400"/>
          <a:ext cx="6095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60958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1952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3526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Wor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65760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814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6483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っかで見たことある図です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1430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0666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レゼンテーション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a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12T00:04:54Z</dcterms:modified>
  <cp:revision>30</cp:revision>
  <dc:subject/>
  <dc:title>PowerPoint Presentation</dc:title>
</cp:coreProperties>
</file>