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FF71-F214-410E-90B1-74083F1BC6E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51BC-2BC9-4DF5-9662-5E4F7482788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実録！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いかにして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を提案して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採用に至った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羽生　章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株式会社スターロジ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実務でちゃんと使え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績もちゃんと上がっ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きちんと説明すれば、思いのほか皆さんちゃんとご理解いただけ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売り込むのではなく、プロジェクトの成功において何が要点かを明確にして、それを共有し、その要点の実現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貢献できることを明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ゃんと手を動かしましょう。サンプルはどんどん作り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ず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自分たちの手に馴染ませてください。相手に責任を押し付けてはいけませ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ざいまし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具体的にはどんな風に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年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件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基幹系リプレース案件向け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盤フレームワーク作成依頼に対応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直請：人材派遣会社さん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Flo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社内購買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著名企業さんのレガシーマイグレー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これから数年がかりでやりま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お客様の具体名は内緒ということ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請けの形態は色々ですが、今年の当社案件のほぼ全て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採用を提案して、受け入れていただけま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だけ未採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た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は私と経理担当含め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人の弱小零細企業なので、これだけでアップアップの案件量なのです。事例の数が少なくてごめん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納期が超タイト、かつ、内容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カバー領域だったため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なので当社の裁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当初先方が検討されていた構成だと、手間がかかるので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規模が非常に大きいの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経験者がほぼ皆無であるため、当社が全力でサポートできる道具立てとし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具体的にはどんな提案を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直球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ンプル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一覧などの資料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本的に、エンジニアの方向けの提案なので、さほどややこしくない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決め手はやは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クセス部分の省力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長かったです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ヶ月かか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ぶりの基幹系全面刷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ホストからの全面オープンシステム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礎スキルや知識の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だけでなく開発手法などトータルで提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員向けプレゼンなども当然あり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結果として、社内標準としての採用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・・では、具体的にどう提案したのか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本日ご参加の方にだけ実際の資料をお見せし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における提案のアウトライ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まず、脱ホストの重要性を共有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幹系システムの認識一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ープンシステム化の必要性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BO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いいんじゃないの？　への対応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オープンシステムの技術トレンドおよび歴史的背景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こういう技術が出てきた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ホストでは当たり前のことをこんなに大騒ぎする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トレンドにおけ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位置付け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相違点・共通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ケーションの構成や開発手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従来型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ケーション開発の問題点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特に同業他社が失敗している事例を持っているため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ついてはかなり警戒しているので、何故失敗したのかなども含めて整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具体的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開発したサンプルを見せ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の仕様は、既存システムの画面をそのまま持ってくる（リプレース案件だか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問題解決として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ンテナの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際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同じサンプルを作ったものを提示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両者のソースコードの対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った場合の具体的な開発の手順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開発の際の仕様書などを全部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ニットテストの重要性の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開発プロセスのプロセスマップを提示（くーすカスタム：当社で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I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呼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質疑応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464240" cy="5543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71625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今後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は、以下の取組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方式の標準化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応含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技術トレーニングのカリキュラム作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予想以上のペースで進んで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がしっかりし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大規模システムをちゃんと作った経験者の集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パッチ当てるの当たり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^^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センブラで業務アプリを書いたりしてた世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業務知識は当然バリバ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半可な受け答えだと許してもらえ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っちも真剣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長期のプロジェクトとなること、リリース後はま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以上稼動することから、突っ込みが非常に厳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数年後には大規模開発の事例として発表できると思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17T12:45:33Z</dcterms:modified>
  <cp:revision>192</cp:revision>
  <dc:subject/>
  <dc:title>スライド 1</dc:title>
</cp:coreProperties>
</file>