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0E4C-91DA-439C-BE39-E1E5A3A779F6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1B44-6AC7-480C-A455-9D997792BDD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が魅せる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の近未来</a:t>
            </a:r>
            <a:br>
              <a:rPr sz="4400"/>
            </a:b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電通国際情報サービ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ENAME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ring getEmployeeNam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Id(generate=SEQUE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nerator="EMPID_SEQ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Id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Vers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Versio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vers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i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rans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getHoge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hog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16080"/>
            <a:ext cx="31244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752480"/>
            <a:ext cx="38102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Department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OneToMany(mappedBy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O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Department depart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EPARTMENT_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int departmentI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05120"/>
            <a:ext cx="312408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1905120"/>
            <a:ext cx="3810240" cy="132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3581280"/>
            <a:ext cx="3733920" cy="28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_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(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_id(F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own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990360"/>
            <a:ext cx="823104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rojec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AssociationTable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able=@Table(name="PROJECT_EMPLOYEE"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Columns={@JoinCol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PROJECT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verseJoinColumns={@JoinColumn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="EMPLOYEES_ID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Employe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 = new HashSe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yToMan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ManyToMany(mappedBy="employees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Collection&lt;Proj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jects = new HashSe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前のバージョンと比べる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実装がシンプルに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により見通しがよ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導入により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N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をルックアップする必要がなくなっ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SecondaryTable(name=“DEPARTMENT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JoinColumn(name="DEPARTMENT_ID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ferencedColumnName="ID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olumn(name="DNAME"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condaryTable="DEPARTMENT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department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0787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アスペクトによる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の実装コードの自動生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によって変わる動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DaoInter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“kuina.dicon”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“…EmployeeDao”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uina.dao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件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id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ById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mployee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job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Job(String jo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(BigDecimal sal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Q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Ename(String e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ename LIKE %?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LikeT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BOTH(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使いやす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でも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プリケーションサーバにデプロイしないと基本的にテストできな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機能も未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s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GE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sal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E)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SalaryFromTo(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BigDecimal salFrom, BigDecimal sal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sal &gt;= ?1 AND sal &lt;= ?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による動的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br>
              <a:rPr sz="32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  AND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ot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From &gt;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ot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 salTo &lt;= ?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alFrom null, salTo n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句な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SearchDto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Criterion(columnName=“ename”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ype=CriterionType.LI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keType=LikeType.BO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otected String employe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getEmployeesByDto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SearchDto dt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条件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キーはカラム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値は検索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条件は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riterionType.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&lt;T&gt;T merge(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られていない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persistence context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に関連付け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insert,upda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MERG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void remove(Object ent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d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な状態にす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が実際に行われるのはトランザクションがコミットされる直前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関連オブジェクトも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さ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cascade=REMOVE 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NamedQuery(queryString="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epartment getDepartment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Que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ファイル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18960"/>
            <a:ext cx="823104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クラス名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getDepartment.ejb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ROM Department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 FETCH d.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d.id = ?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Way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外部ファイル化した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ファイル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*Plus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等のツールでそのまま実行でき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queryString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しても使え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と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開発者の分業が可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私からのメッセ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テストしにくい開発環境・フレームワークなんかくそくら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実装の正しさはテストによってのみ確かめられ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_getEmployee.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 getEmployee(int id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インド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IN /*?1*/('CLERK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llection&lt;Employee&gt; getEmployees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tring[] job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埋め込み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/*$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に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渡すとバインド変数ではなく文字として値が埋め込ま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id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 job = 'CLERK'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al &gt;= /*?1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GI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変数コ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ELECT * FROM 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BEGIN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1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b = /*?1*/'CLERK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IF ?2 != null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ND sal &gt;= /*?2*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END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clipse Plu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ベースとなる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OneToMany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econdary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RelationShip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グラフィック表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との差異チェック・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リファクタリング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D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出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各種データベース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メソッド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よる検索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erg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自動作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特定のカラム、検索用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での検索のウィザー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検索用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T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作成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テスト支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KuinaUnit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テストコード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スト用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データの自動作成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 Consol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行環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テーブル名、エンティティ名、カラム名、プロパティ名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の補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検索結果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表示し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から直接データの更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されたデータ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DaoMaker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との連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自動生成される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に表示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Console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EJB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NamedQuery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、外部ファイルに保存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本当にだ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よくできてい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TopLink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D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仕様をさらに洗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シンプルで覚えやす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アノテーションの記述量も最小限になるように工夫されてい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マルチデータベース間のデータ移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CSV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へのエクスポート、インポー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higayasu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たいす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取り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MessageDriven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は状況しだ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それら以外は不採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DIContainer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上で動か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実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D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000000"/>
                </a:solidFill>
                <a:latin typeface="Arial"/>
              </a:rPr>
              <a:t>Kuina Stu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Kuina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Eclipse Plugin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ノテ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2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@Table(name=“EMP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4-22T02:19:17Z</dcterms:modified>
  <cp:revision>187</cp:revision>
  <dc:subject/>
  <dc:title>スライド 1</dc:title>
</cp:coreProperties>
</file>