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D489-7FB0-4FED-BD3A-86E63452C132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659772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6597720"/>
            <a:ext cx="464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BE7F-A362-4D6B-8101-97EC65443675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 Strategies Day 2005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4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の成果と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i18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進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運営体制の整備とさらなるスタッフ増員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特に、インフラ系・ドキュメント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より一層の認知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国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海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務適用への安心性向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支援体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学習支援（勉強会の開催やドキュメント拡充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達成に向けて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つの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371600"/>
            <a:ext cx="25909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25981"/>
              <a:gd name="adj5" fmla="val 213282"/>
              <a:gd name="adj6" fmla="val 15717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ーザに対する商用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ロジェクト運営へのサポー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運営体制の確立・整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0" y="4786200"/>
            <a:ext cx="213372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3138"/>
              <a:gd name="adj5" fmla="val 161606"/>
              <a:gd name="adj6" fmla="val -55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新プロダクトの開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ドキュメントの整備・拡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テー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6880" y="2362320"/>
            <a:ext cx="7467480" cy="403848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hip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9880" y="3733920"/>
            <a:ext cx="5181480" cy="259056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91040" y="4815000"/>
            <a:ext cx="2819160" cy="144756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371600"/>
            <a:ext cx="28958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8750"/>
              <a:gd name="adj5" fmla="val 213282"/>
              <a:gd name="adj6" fmla="val 1406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電通国際情報サービス様との協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OSCJ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参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429000"/>
            <a:ext cx="2590920" cy="38088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115930"/>
              <a:gd name="adj5" fmla="val 202500"/>
              <a:gd name="adj6" fmla="val 1334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設立に向け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4800600"/>
            <a:ext cx="228600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4097"/>
              <a:gd name="adj5" fmla="val 158930"/>
              <a:gd name="adj6" fmla="val -52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EJB3.0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への対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4:58:21Z</dcterms:created>
  <dc:creator>羽生　章洋</dc:creator>
  <dc:description/>
  <dc:language>en-US</dc:language>
  <cp:lastModifiedBy>羽生　章洋</cp:lastModifiedBy>
  <dcterms:modified xsi:type="dcterms:W3CDTF">2005-04-21T05:43:52Z</dcterms:modified>
  <cp:revision>30</cp:revision>
  <dc:subject/>
  <dc:title>Seasar Strategies Day 2005 Opening</dc:title>
</cp:coreProperties>
</file>