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7621588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5058-14CE-4A4C-875B-5C645903C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647676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1320" y="3441960"/>
            <a:ext cx="647676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2134-5BFF-4100-A8BB-40F172A66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016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71320" y="344196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0160" y="344196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A5C1-0EE1-4F5B-A4E4-5A606791F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61200" y="165060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50720" y="165060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71320" y="344196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61200" y="344196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50720" y="344196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1195-B25D-4839-993D-6D11206B0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71320" y="1650600"/>
            <a:ext cx="647676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250A-CD1D-4DD3-8CB2-9F802F6B6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647676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73F9-3C5A-42B2-8FCB-959A1A06A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316044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0160" y="1650600"/>
            <a:ext cx="316044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E2AB-8765-4A93-B30F-89DF8BA3D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7AA6-E244-4732-BF3B-B59091FB3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1320" y="507960"/>
            <a:ext cx="647676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52AC-4354-4366-9926-0D75A3AD0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0160" y="1650600"/>
            <a:ext cx="316044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71320" y="344196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B218-4DB7-4F07-BB15-34E27E43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316044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016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0160" y="344196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DE62-34AD-4ECD-865A-D0D15458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016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1320" y="3441960"/>
            <a:ext cx="647676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51B3-6967-4E53-A698-6377843B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1320" y="1650600"/>
            <a:ext cx="647676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 fontScale="98000"/>
          </a:bodyPr>
          <a:p>
            <a:pPr marL="285840" indent="-28584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379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957960" indent="-19116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440" indent="-19152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5120" indent="-19116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5120" indent="-19116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5120" indent="-19116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71320" y="5207040"/>
            <a:ext cx="1587240" cy="3808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Autofit/>
          </a:bodyPr>
          <a:lstStyle>
            <a:lvl1pPr indent="0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207040"/>
            <a:ext cx="2413080" cy="3808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Autofit/>
          </a:bodyPr>
          <a:lstStyle>
            <a:lvl1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840" y="5207040"/>
            <a:ext cx="1587600" cy="3808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Autofit/>
          </a:bodyPr>
          <a:lstStyle>
            <a:lvl1pPr indent="0" algn="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fld id="{49D1E3AA-98AC-4733-A9E1-F994695C277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374160" y="1416960"/>
            <a:ext cx="827640" cy="33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Diffutils 2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analyze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MP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ONFIG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MPBUF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MPBUF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ONTEXT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ENT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ENT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ED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ERROR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NMATCH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NMATCH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GnuVersion.c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IFDEF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IO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NORMAL.C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IDE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YSTEM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UTIL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XMALLOC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42160" y="3782160"/>
            <a:ext cx="906840" cy="932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Dird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Doc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Doc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Result li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Context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Context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76360" y="1707840"/>
            <a:ext cx="841320" cy="505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MergeD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MergeDoc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MergeDoc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921920" y="3912840"/>
            <a:ext cx="974880" cy="107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wrapper supp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(Dirdoc onl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Scan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Scan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Thread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Thread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45960" y="1188720"/>
            <a:ext cx="1213920" cy="781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diffutils wrapp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(tagDIFFSETTING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= diffutils option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Wrapper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Wrapper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02920" y="493920"/>
            <a:ext cx="991440" cy="64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Generate pat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(through menu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atchTool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atchToo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78640" y="1983600"/>
            <a:ext cx="1348200" cy="1741320"/>
          </a:xfrm>
          <a:prstGeom prst="rect">
            <a:avLst/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editlib buf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crystaltextbuffer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crystaltextbuffer.in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crystaltextbuffer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encoding (not used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hcondlg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hcondlg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s2cs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s2cs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encoding needs file fil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pattern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pattern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683440" y="1257480"/>
            <a:ext cx="592200" cy="49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files lo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iles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iles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6080" y="2978280"/>
            <a:ext cx="738360" cy="475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WinMe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2" idx="3"/>
            <a:endCxn id="44" idx="1"/>
          </p:cNvCxnSpPr>
          <p:nvPr/>
        </p:nvCxnSpPr>
        <p:spPr>
          <a:xfrm>
            <a:off x="2349000" y="4248000"/>
            <a:ext cx="2573280" cy="200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" name=""/>
          <p:cNvCxnSpPr>
            <a:stCxn id="44" idx="3"/>
            <a:endCxn id="41" idx="1"/>
          </p:cNvCxnSpPr>
          <p:nvPr/>
        </p:nvCxnSpPr>
        <p:spPr>
          <a:xfrm flipV="1">
            <a:off x="5896800" y="3109680"/>
            <a:ext cx="477720" cy="1338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" name=""/>
          <p:cNvCxnSpPr>
            <a:stCxn id="45" idx="3"/>
            <a:endCxn id="41" idx="1"/>
          </p:cNvCxnSpPr>
          <p:nvPr/>
        </p:nvCxnSpPr>
        <p:spPr>
          <a:xfrm>
            <a:off x="6059880" y="1579320"/>
            <a:ext cx="314640" cy="1530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" name=""/>
          <p:cNvCxnSpPr>
            <a:stCxn id="54" idx="3"/>
            <a:endCxn id="47" idx="1"/>
          </p:cNvCxnSpPr>
          <p:nvPr/>
        </p:nvCxnSpPr>
        <p:spPr>
          <a:xfrm flipV="1">
            <a:off x="2463840" y="2854080"/>
            <a:ext cx="515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</p:cxnSp>
      <p:cxnSp>
        <p:nvCxnSpPr>
          <p:cNvPr id="55" name=""/>
          <p:cNvCxnSpPr>
            <a:stCxn id="49" idx="3"/>
            <a:endCxn id="43" idx="1"/>
          </p:cNvCxnSpPr>
          <p:nvPr/>
        </p:nvCxnSpPr>
        <p:spPr>
          <a:xfrm flipV="1">
            <a:off x="964440" y="1960560"/>
            <a:ext cx="512280" cy="1256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56" name=""/>
          <p:cNvCxnSpPr>
            <a:stCxn id="49" idx="3"/>
            <a:endCxn id="42" idx="1"/>
          </p:cNvCxnSpPr>
          <p:nvPr/>
        </p:nvCxnSpPr>
        <p:spPr>
          <a:xfrm>
            <a:off x="964440" y="3216240"/>
            <a:ext cx="478080" cy="1032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57" name=""/>
          <p:cNvCxnSpPr>
            <a:stCxn id="46" idx="3"/>
            <a:endCxn id="45" idx="1"/>
          </p:cNvCxnSpPr>
          <p:nvPr/>
        </p:nvCxnSpPr>
        <p:spPr>
          <a:xfrm>
            <a:off x="2394360" y="815760"/>
            <a:ext cx="2451960" cy="76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58" name=""/>
          <p:cNvCxnSpPr>
            <a:stCxn id="43" idx="3"/>
            <a:endCxn id="45" idx="1"/>
          </p:cNvCxnSpPr>
          <p:nvPr/>
        </p:nvCxnSpPr>
        <p:spPr>
          <a:xfrm flipV="1">
            <a:off x="2317680" y="1579320"/>
            <a:ext cx="252864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sp>
        <p:nvSpPr>
          <p:cNvPr id="54" name=""/>
          <p:cNvSpPr/>
          <p:nvPr/>
        </p:nvSpPr>
        <p:spPr>
          <a:xfrm>
            <a:off x="1330560" y="2610000"/>
            <a:ext cx="1133280" cy="49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two buffe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GhostTextBuffer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GhostTextBuffer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43" idx="3"/>
            <a:endCxn id="48" idx="1"/>
          </p:cNvCxnSpPr>
          <p:nvPr/>
        </p:nvCxnSpPr>
        <p:spPr>
          <a:xfrm flipV="1">
            <a:off x="2317680" y="1503360"/>
            <a:ext cx="36612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43" idx="2"/>
            <a:endCxn id="54" idx="0"/>
          </p:cNvCxnSpPr>
          <p:nvPr/>
        </p:nvCxnSpPr>
        <p:spPr>
          <a:xfrm>
            <a:off x="1896840" y="2213280"/>
            <a:ext cx="7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61" name=""/>
          <p:cNvCxnSpPr>
            <a:endCxn id="45" idx="2"/>
          </p:cNvCxnSpPr>
          <p:nvPr/>
        </p:nvCxnSpPr>
        <p:spPr>
          <a:xfrm flipV="1">
            <a:off x="4647960" y="1969920"/>
            <a:ext cx="805320" cy="199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62" name=""/>
          <p:cNvCxnSpPr>
            <a:stCxn id="42" idx="3"/>
          </p:cNvCxnSpPr>
          <p:nvPr/>
        </p:nvCxnSpPr>
        <p:spPr>
          <a:xfrm flipV="1">
            <a:off x="2349000" y="3961800"/>
            <a:ext cx="229968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85840" y="304560"/>
            <a:ext cx="2629080" cy="4698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ocs &amp; Buffe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30680" y="2455560"/>
            <a:ext cx="802440" cy="111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MainFr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inFrm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inFrm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ash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ash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.r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sourc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17440" y="3988800"/>
            <a:ext cx="1070640" cy="8409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DirFr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Frame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Fram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Bar with stop but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CompStateBa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CompStateBa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53760" y="4110480"/>
            <a:ext cx="816120" cy="59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UserA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Action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OutputDl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OutputDl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29800" y="3569400"/>
            <a:ext cx="1311480" cy="1677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One vie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View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istvwe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istvwex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ViewColHandle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ViewColItem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ViewColItem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ortHeaderCtrl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ortHeaderCtrl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to display localized string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ocality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ocality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4" idx="3"/>
            <a:endCxn id="65" idx="1"/>
          </p:cNvCxnSpPr>
          <p:nvPr/>
        </p:nvCxnSpPr>
        <p:spPr>
          <a:xfrm>
            <a:off x="939600" y="3013200"/>
            <a:ext cx="178200" cy="1397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69" name=""/>
          <p:cNvCxnSpPr>
            <a:stCxn id="65" idx="3"/>
            <a:endCxn id="67" idx="1"/>
          </p:cNvCxnSpPr>
          <p:nvPr/>
        </p:nvCxnSpPr>
        <p:spPr>
          <a:xfrm flipV="1">
            <a:off x="2187720" y="4408200"/>
            <a:ext cx="443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70" name=""/>
          <p:cNvCxnSpPr>
            <a:stCxn id="65" idx="3"/>
            <a:endCxn id="71" idx="1"/>
          </p:cNvCxnSpPr>
          <p:nvPr/>
        </p:nvCxnSpPr>
        <p:spPr>
          <a:xfrm flipV="1">
            <a:off x="2187360" y="2936520"/>
            <a:ext cx="549720" cy="147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72" name=""/>
          <p:cNvCxnSpPr>
            <a:stCxn id="67" idx="3"/>
            <a:endCxn id="66" idx="1"/>
          </p:cNvCxnSpPr>
          <p:nvPr/>
        </p:nvCxnSpPr>
        <p:spPr>
          <a:xfrm>
            <a:off x="3940200" y="4408560"/>
            <a:ext cx="21074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1" name=""/>
          <p:cNvSpPr/>
          <p:nvPr/>
        </p:nvSpPr>
        <p:spPr>
          <a:xfrm>
            <a:off x="2740680" y="2584800"/>
            <a:ext cx="1090440" cy="704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Header bar (path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orFilepathBa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orFilepathBa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pathEdi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pathEdit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179000" y="721800"/>
            <a:ext cx="947160" cy="15710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MergeFr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hildFrm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hildFrm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EditStatu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itterWndE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itterWndEx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ffViewBa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ffViewBa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izecbar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izecba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izecba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izecbar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60480" y="679680"/>
            <a:ext cx="1044720" cy="704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Two splitter view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EditView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Edit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hostTextView.cpp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hostText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663280" y="1704600"/>
            <a:ext cx="1239840" cy="460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Two detail view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DiffDetailView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DiffDetail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73" idx="3"/>
            <a:endCxn id="75" idx="1"/>
          </p:cNvCxnSpPr>
          <p:nvPr/>
        </p:nvCxnSpPr>
        <p:spPr>
          <a:xfrm>
            <a:off x="2125440" y="1508040"/>
            <a:ext cx="54036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77" name=""/>
          <p:cNvCxnSpPr>
            <a:stCxn id="73" idx="3"/>
            <a:endCxn id="74" idx="1"/>
          </p:cNvCxnSpPr>
          <p:nvPr/>
        </p:nvCxnSpPr>
        <p:spPr>
          <a:xfrm flipV="1">
            <a:off x="2125800" y="1031040"/>
            <a:ext cx="630720" cy="477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sp>
        <p:nvSpPr>
          <p:cNvPr id="78" name=""/>
          <p:cNvSpPr/>
          <p:nvPr/>
        </p:nvSpPr>
        <p:spPr>
          <a:xfrm>
            <a:off x="4483080" y="250920"/>
            <a:ext cx="1061640" cy="2544480"/>
          </a:xfrm>
          <a:prstGeom prst="rect">
            <a:avLst/>
          </a:prstGeom>
          <a:solidFill>
            <a:srgbClr val="cccc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editlib 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Syntax colored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rystaleditviewex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rystaleditviewe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Editable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editview.in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editview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edit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Basic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textview2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textview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text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textview.in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cmd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needs registry acc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istry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istry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source for regist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re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10760" y="737640"/>
            <a:ext cx="1264320" cy="15710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UserA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dialogs search repl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editreplacedl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findtextdl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findtextdl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editreplacedl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mcombo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mcombo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mcombo.in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needs</a:t>
            </a: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gular express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regexp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regexp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64" idx="3"/>
            <a:endCxn id="73" idx="1"/>
          </p:cNvCxnSpPr>
          <p:nvPr/>
        </p:nvCxnSpPr>
        <p:spPr>
          <a:xfrm flipV="1">
            <a:off x="939600" y="1507320"/>
            <a:ext cx="240120" cy="1505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81" name=""/>
          <p:cNvCxnSpPr>
            <a:stCxn id="73" idx="3"/>
            <a:endCxn id="71" idx="1"/>
          </p:cNvCxnSpPr>
          <p:nvPr/>
        </p:nvCxnSpPr>
        <p:spPr>
          <a:xfrm>
            <a:off x="2125440" y="1507680"/>
            <a:ext cx="611640" cy="1429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82" name=""/>
          <p:cNvCxnSpPr>
            <a:stCxn id="74" idx="3"/>
            <a:endCxn id="78" idx="1"/>
          </p:cNvCxnSpPr>
          <p:nvPr/>
        </p:nvCxnSpPr>
        <p:spPr>
          <a:xfrm>
            <a:off x="3809520" y="1031400"/>
            <a:ext cx="654840" cy="49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</p:cxnSp>
      <p:cxnSp>
        <p:nvCxnSpPr>
          <p:cNvPr id="83" name=""/>
          <p:cNvCxnSpPr>
            <a:stCxn id="75" idx="3"/>
            <a:endCxn id="78" idx="1"/>
          </p:cNvCxnSpPr>
          <p:nvPr/>
        </p:nvCxnSpPr>
        <p:spPr>
          <a:xfrm flipV="1">
            <a:off x="3900240" y="1523520"/>
            <a:ext cx="564120" cy="41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</p:cxnSp>
      <p:cxnSp>
        <p:nvCxnSpPr>
          <p:cNvPr id="84" name=""/>
          <p:cNvCxnSpPr>
            <a:stCxn id="78" idx="3"/>
            <a:endCxn id="79" idx="1"/>
          </p:cNvCxnSpPr>
          <p:nvPr/>
        </p:nvCxnSpPr>
        <p:spPr>
          <a:xfrm>
            <a:off x="5563800" y="1523520"/>
            <a:ext cx="227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1943280" cy="4701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Times New Roman"/>
              </a:rPr>
              <a:t>Frames &amp; View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051440" y="765720"/>
            <a:ext cx="1296360" cy="3935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Editlib syntax par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rystalparser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rystalparser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rystaltextblock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rystaltextblock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parser langu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tc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tex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basic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batch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asp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ortran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hp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ython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er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rexx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rsrc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gm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h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iod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q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java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lisp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htm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plusplus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c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asca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is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62720" y="228600"/>
            <a:ext cx="0" cy="527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51960" y="304560"/>
            <a:ext cx="88020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Times New Roman"/>
              </a:rPr>
              <a:t>Not Us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879160" y="2379960"/>
            <a:ext cx="1422720" cy="2696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Editlib global fun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CrysEdit as d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tlib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tlib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custom status b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tatba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tatba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splash scre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ash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ash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Editlib view fun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spell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wispelld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goto line dialo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otodl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otodl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toggle header (??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sup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sup.in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sup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626520" y="928800"/>
            <a:ext cx="691200" cy="120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Diffuti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LOCA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FF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ffmain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ETOPT1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ETOPT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ETOP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DIFF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TACK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92400" y="920160"/>
            <a:ext cx="662400" cy="81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Fil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File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tool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tool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textfile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textfil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2600" y="767520"/>
            <a:ext cx="11941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unicode conver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UnicodeUtf8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UnicodeUtf8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unicode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unicode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48320" y="3435840"/>
            <a:ext cx="921240" cy="132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Plugi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Transform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Transform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Plugins lowlev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lugin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lugin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wdisp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llproxy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llproxy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wdisp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99560" y="3435120"/>
            <a:ext cx="784080" cy="1084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Versio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sauto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sapi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sapi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Promp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ssPrompt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ssPromp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Prompt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97320" y="771480"/>
            <a:ext cx="988560" cy="2422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option dialo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Registry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Syntax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Synta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Vs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Vs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Color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Color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Filte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Filte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General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General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Registry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lorButton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lorButton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ColsDl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ColsDl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anguageSelec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anguageSelect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3800" y="1613160"/>
            <a:ext cx="1418040" cy="38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LogFi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nfigLo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nfigLo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ogFile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ogFil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GNU coretoo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retool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retype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retool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Get file vers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ersion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ersion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gistry acc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Key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Key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gular expression &amp; Filt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Exp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Exp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FilterMg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FilterMg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EX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E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Path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ath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ath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Check loaded dll for ex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llve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llve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Files mapp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69400" y="771480"/>
            <a:ext cx="1280880" cy="2422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Internet link in about bo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tatLink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tatLink.h</a:t>
            </a: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sizable dialo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MoveConstraint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MoveConstrain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Subclas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Subclas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Custom men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CMenu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CMenu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Custom wait curs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WaitStatusCurso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WaitStatusCursor.h</a:t>
            </a: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GUI oth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ultimon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uperComboBo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uperComboBox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2286000" cy="317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0T14:23:50Z</dcterms:created>
  <dc:creator>Laoran</dc:creator>
  <dc:description/>
  <dc:language>en-US</dc:language>
  <cp:lastModifiedBy>Christian Blackburn</cp:lastModifiedBy>
  <dcterms:modified xsi:type="dcterms:W3CDTF">2004-03-18T00:08:39Z</dcterms:modified>
  <cp:revision>30</cp:revision>
  <dc:subject/>
  <dc:title>Presentation of WinMerge fi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E:\programmation\WinMerge\WinMerge tilé\____documentation file WinMerge\slides graphic format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